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40A-E4B4-4E85-BDAE-A73949EE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8C5-EA70-4D0F-A277-5EFF0D32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4B2-B1B2-407B-8195-70CFB357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CD2-721E-45AF-A7BF-E3FF6C1D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433-A606-4461-9B4F-EFCB576C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04E-B126-49EA-8C3D-C8FA78E6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082-9765-411D-9A66-02961033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D2C-63F3-4A3E-B649-3FDDA8E5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6D0-775C-4244-9F27-308D660B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0FC-25CE-42D4-A94C-26894B8D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82E-97F9-4BE4-8F1F-58EBF9F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7EF-62C3-4D6F-9820-7818EBB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A8A14C-55C8-4F70-88B8-63025BF645C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chives.ru/press/12-03-2020.shtml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5640" y="5157360"/>
            <a:ext cx="6476760" cy="11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Екатеринбур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020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548640"/>
            <a:ext cx="8280720" cy="432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Порядок экспертизы ценности и составления номенклатуры дел в государственном орг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9images.jpg"/>
          <p:cNvPicPr/>
          <p:nvPr/>
        </p:nvPicPr>
        <p:blipFill>
          <a:blip r:embed="rId1"/>
          <a:stretch/>
        </p:blipFill>
        <p:spPr>
          <a:xfrm>
            <a:off x="539640" y="4077000"/>
            <a:ext cx="26373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2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организации хранения, комплектования, учета и использования документов Архивного фонда Российской Федерации и других архивных документов в государственных органах, органах местного самоуправления и организациях, 2015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1640" y="1412640"/>
            <a:ext cx="8496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экспертизы ценности документов в организации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документов для включения в состав Архивного фонда РФ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документов, не подлежащих дальнейшему хране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иза ценности документов в организации провод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5"/>
          <p:cNvSpPr/>
          <p:nvPr/>
        </p:nvSpPr>
        <p:spPr>
          <a:xfrm>
            <a:off x="2123640" y="3285000"/>
            <a:ext cx="13676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Стрелка вниз 6"/>
          <p:cNvSpPr/>
          <p:nvPr/>
        </p:nvSpPr>
        <p:spPr>
          <a:xfrm>
            <a:off x="5508000" y="3285000"/>
            <a:ext cx="13676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7" name="Рисунок 7" descr="д11.jpg"/>
          <p:cNvPicPr/>
          <p:nvPr/>
        </p:nvPicPr>
        <p:blipFill>
          <a:blip r:embed="rId1"/>
          <a:stretch/>
        </p:blipFill>
        <p:spPr>
          <a:xfrm>
            <a:off x="3564000" y="4221000"/>
            <a:ext cx="2142720" cy="2142720"/>
          </a:xfrm>
          <a:prstGeom prst="rect">
            <a:avLst/>
          </a:prstGeom>
          <a:ln w="9525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5364000" y="3933000"/>
            <a:ext cx="3384000" cy="2592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рхиве организации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роцессе подготовки дел к передаче на постоянное хра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467640" y="3933000"/>
            <a:ext cx="3312000" cy="2664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лопроизводств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 составлении номенклатуры дел организации и при подготовке дел к передач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арх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елопроизводства в государственных орган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1640" y="1124640"/>
            <a:ext cx="8640720" cy="55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827640" y="1845000"/>
            <a:ext cx="77043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рганизации и проведения работы по экспертизе ценности документов в государственном органе приказом руководите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ется экспертная комиссия, центральная экспертная комиссия (ЭК, ЦЭ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, функции, права, организация работы ЭК (ЦЭК) определяются положением о ней, утверждаемом правовым актом государственного орг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9" descr="д64.jpg"/>
          <p:cNvPicPr/>
          <p:nvPr/>
        </p:nvPicPr>
        <p:blipFill>
          <a:blip r:embed="rId1"/>
          <a:stretch/>
        </p:blipFill>
        <p:spPr>
          <a:xfrm>
            <a:off x="5940000" y="479700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елопроизводства в государственных орган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51640" y="1124640"/>
            <a:ext cx="8640720" cy="55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83640" y="1412640"/>
            <a:ext cx="8064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тиза ценности документов проводится на основе федеральных законов, иных нормативных правовых актов Российской Федерации, перечней типовых архивных документов с указанием сроков хранения, перечней документов, образующихся в процессе деятельности федеральных органов государственной власти, иных государственных органов Российской Федерации, а также в процессе деятельности подведомственных им организаци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указанием сроков хра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елопроизводства в государственных орган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1640" y="1124640"/>
            <a:ext cx="8640720" cy="55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683640" y="1196640"/>
            <a:ext cx="8208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результатам экспертизы ценности документов в государственном органе, составляю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и дел структурных подразд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оянного 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ых (свыше 10 лет) сроков хран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и дел по личному соста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ся оформление д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яются акты о выделении к уничтожению де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подлежащих хра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9"/>
          <p:cNvSpPr/>
          <p:nvPr/>
        </p:nvSpPr>
        <p:spPr>
          <a:xfrm>
            <a:off x="395640" y="1628640"/>
            <a:ext cx="8568720" cy="496836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Стрелка вниз 4"/>
          <p:cNvSpPr/>
          <p:nvPr/>
        </p:nvSpPr>
        <p:spPr>
          <a:xfrm>
            <a:off x="2699640" y="1700640"/>
            <a:ext cx="3672000" cy="8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827640" y="2565000"/>
            <a:ext cx="2952000" cy="345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является нормативным правовым актом, устанавливающим сроки хранения типовых управленческих архивных докум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5148000" y="2565000"/>
            <a:ext cx="3384000" cy="345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включает виды документов, образующихся при документировании однотипных управленческих функций общих  для большинства организ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395640" y="260640"/>
            <a:ext cx="8496720" cy="98028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начение Перечня типовых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0"/>
          <p:cNvSpPr/>
          <p:nvPr/>
        </p:nvSpPr>
        <p:spPr>
          <a:xfrm>
            <a:off x="323640" y="1340640"/>
            <a:ext cx="8568720" cy="525636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539640" y="2277000"/>
            <a:ext cx="806436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и хранения архивных документов независимо от места их хранения </a:t>
            </a:r>
            <a:r>
              <a:rPr b="1" lang="ru-RU" sz="2000" spc="-1" strike="noStrike" u="sng">
                <a:solidFill>
                  <a:srgbClr val="1e1c11"/>
                </a:solidFill>
                <a:uFillTx/>
                <a:latin typeface="Times New Roman"/>
              </a:rPr>
              <a:t>исчисляются с 1 января года, следующего за годом, </a:t>
            </a:r>
            <a:br>
              <a:rPr sz="2000"/>
            </a:br>
            <a:r>
              <a:rPr b="1" lang="ru-RU" sz="2000" spc="-1" strike="noStrike" u="sng">
                <a:solidFill>
                  <a:srgbClr val="1e1c11"/>
                </a:solidFill>
                <a:uFillTx/>
                <a:latin typeface="Times New Roman"/>
              </a:rPr>
              <a:t>в котором они были закончены делопроизводством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539640" y="4005000"/>
            <a:ext cx="8136720" cy="129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216000" algn="ctr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Временные сроки хранения реестров, книг, журналов </a:t>
            </a:r>
            <a:r>
              <a:rPr b="1" lang="ru-RU" sz="2000" spc="-1" strike="noStrike" u="sng">
                <a:solidFill>
                  <a:srgbClr val="1e1c11"/>
                </a:solidFill>
                <a:uFillTx/>
                <a:latin typeface="Times New Roman"/>
              </a:rPr>
              <a:t>исчисляются с 1 января года, следующего за годом,</a:t>
            </a:r>
            <a:br>
              <a:rPr sz="2000"/>
            </a:br>
            <a:r>
              <a:rPr b="1" lang="ru-RU" sz="2000" spc="-1" strike="noStrike" u="sng">
                <a:solidFill>
                  <a:srgbClr val="1e1c11"/>
                </a:solidFill>
                <a:uFillTx/>
                <a:latin typeface="Times New Roman"/>
              </a:rPr>
              <a:t> в котором было завершено их 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755640" y="5562000"/>
            <a:ext cx="7704360" cy="891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</a:rPr>
              <a:t>Сроки хранения документов не зависят от вида носителя и ограничения доступа к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11"/>
          <p:cNvSpPr/>
          <p:nvPr/>
        </p:nvSpPr>
        <p:spPr>
          <a:xfrm>
            <a:off x="2627640" y="1340640"/>
            <a:ext cx="3672000" cy="8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9"/>
          <p:cNvSpPr/>
          <p:nvPr/>
        </p:nvSpPr>
        <p:spPr>
          <a:xfrm>
            <a:off x="323640" y="1412640"/>
            <a:ext cx="8496720" cy="5229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низ 4"/>
          <p:cNvSpPr/>
          <p:nvPr/>
        </p:nvSpPr>
        <p:spPr>
          <a:xfrm>
            <a:off x="2699640" y="1628640"/>
            <a:ext cx="367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611640" y="2421000"/>
            <a:ext cx="806436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осле истечения сроков временного хранения документы подлежат уничт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539640" y="3861000"/>
            <a:ext cx="8136720" cy="129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Уничтожение документов до истечения сроков их временного хранения запрещ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755640" y="5373360"/>
            <a:ext cx="7704360" cy="129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Нарушение требований о хранении документов влечет за собой ответственность, предусмотренную законодательством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1"/>
          <p:cNvSpPr/>
          <p:nvPr/>
        </p:nvSpPr>
        <p:spPr>
          <a:xfrm>
            <a:off x="395640" y="1268640"/>
            <a:ext cx="8496720" cy="5373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трелка вниз 4"/>
          <p:cNvSpPr/>
          <p:nvPr/>
        </p:nvSpPr>
        <p:spPr>
          <a:xfrm>
            <a:off x="2699640" y="1268640"/>
            <a:ext cx="367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539640" y="1917000"/>
            <a:ext cx="8208720" cy="45806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39000"/>
          </a:bodyPr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000" indent="-303480">
              <a:lnSpc>
                <a:spcPct val="11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4000" spc="-1" strike="noStrike">
                <a:solidFill>
                  <a:srgbClr val="1e1c11"/>
                </a:solidFill>
                <a:latin typeface="Times New Roman"/>
              </a:rPr>
              <a:t>Срок хранения </a:t>
            </a:r>
            <a:r>
              <a:rPr b="1" lang="ru-RU" sz="4000" spc="-1" strike="noStrike">
                <a:solidFill>
                  <a:srgbClr val="1e1c11"/>
                </a:solidFill>
                <a:latin typeface="Times New Roman"/>
              </a:rPr>
              <a:t>«Постоянно» </a:t>
            </a:r>
            <a:r>
              <a:rPr b="0" lang="ru-RU" sz="4000" spc="-1" strike="noStrike">
                <a:solidFill>
                  <a:srgbClr val="1e1c11"/>
                </a:solidFill>
                <a:latin typeface="Times New Roman"/>
              </a:rPr>
              <a:t>, установленный для определенных видов документов, означает, что указанные документы, образовавшиеся в деятельности источников комплектования государственных архивов, включаются в состав Архивного фонда Российской Федерации и подлежат передаче на постоянное хранение в соответствующие архивы после истечения сроков их временного хранения в организац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5000" indent="-303480">
              <a:lnSpc>
                <a:spcPct val="11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lang="ru-RU" sz="4200" spc="-1" strike="noStrike">
                <a:solidFill>
                  <a:srgbClr val="1e1c11"/>
                </a:solidFill>
                <a:latin typeface="Times New Roman"/>
              </a:rPr>
              <a:t>15 лет</a:t>
            </a:r>
            <a:r>
              <a:rPr b="0" lang="ru-RU" sz="4200" spc="-1" strike="noStrike">
                <a:solidFill>
                  <a:srgbClr val="1e1c11"/>
                </a:solidFill>
                <a:latin typeface="Times New Roman"/>
              </a:rPr>
              <a:t>  - для документов федеральных органов государственной власти, и федеральных организаций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05000" indent="-303480">
              <a:lnSpc>
                <a:spcPct val="11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lang="ru-RU" sz="4200" spc="-1" strike="noStrike">
                <a:solidFill>
                  <a:srgbClr val="1e1c11"/>
                </a:solidFill>
                <a:latin typeface="Times New Roman"/>
              </a:rPr>
              <a:t>10 лет </a:t>
            </a:r>
            <a:r>
              <a:rPr b="0" lang="ru-RU" sz="4200" spc="-1" strike="noStrike">
                <a:solidFill>
                  <a:srgbClr val="1e1c11"/>
                </a:solidFill>
                <a:latin typeface="Times New Roman"/>
              </a:rPr>
              <a:t>- для документов органов государственной власти, иных государственных органов субъектов Российской Федерации и организаций субъектов Российской Федерации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05000" indent="-303480">
              <a:lnSpc>
                <a:spcPct val="11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lang="ru-RU" sz="4200" spc="-1" strike="noStrike">
                <a:solidFill>
                  <a:srgbClr val="1e1c11"/>
                </a:solidFill>
                <a:latin typeface="Times New Roman"/>
              </a:rPr>
              <a:t>5 лет </a:t>
            </a:r>
            <a:r>
              <a:rPr b="0" lang="ru-RU" sz="4200" spc="-1" strike="noStrike">
                <a:solidFill>
                  <a:srgbClr val="1e1c11"/>
                </a:solidFill>
                <a:latin typeface="Times New Roman"/>
              </a:rPr>
              <a:t>- для документов органов местного самоуправления и муниципальных организаций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0"/>
          <p:cNvSpPr/>
          <p:nvPr/>
        </p:nvSpPr>
        <p:spPr>
          <a:xfrm>
            <a:off x="251640" y="1196640"/>
            <a:ext cx="8640720" cy="54450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1547640" y="1556640"/>
            <a:ext cx="572472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ок 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До ликвидации организ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827640" y="3501000"/>
            <a:ext cx="7560360" cy="237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указанные документы хранятся в организации до ее ликвидации, независимо от того, выступает или не выступает эта организация источником комплектования государственного или муниципального арх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3348000" y="2853000"/>
            <a:ext cx="223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9"/>
          <p:cNvSpPr/>
          <p:nvPr/>
        </p:nvSpPr>
        <p:spPr>
          <a:xfrm>
            <a:off x="395640" y="1196640"/>
            <a:ext cx="8424720" cy="54450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1547640" y="1772640"/>
            <a:ext cx="572472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Срок хранения                         «До минования над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827640" y="3573000"/>
            <a:ext cx="7560360" cy="2304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 организация сама определяет срок хранения указанных документов, однако этот срок не может быть менее одного года</a:t>
            </a:r>
            <a:r>
              <a:rPr b="0" lang="en-US" sz="2400" spc="-1" strike="noStrike">
                <a:solidFill>
                  <a:srgbClr val="1e1c11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проекты локальных нормативных актов организации, документы,</a:t>
            </a:r>
            <a:r>
              <a:rPr b="0" lang="en-US" sz="2400" spc="-1" strike="noStrike">
                <a:solidFill>
                  <a:srgbClr val="1e1c1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присланные для сведения, копии документов</a:t>
            </a:r>
            <a:r>
              <a:rPr b="0" lang="en-US" sz="2400" spc="-1" strike="noStrike">
                <a:solidFill>
                  <a:srgbClr val="1e1c1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7"/>
          <p:cNvSpPr/>
          <p:nvPr/>
        </p:nvSpPr>
        <p:spPr>
          <a:xfrm>
            <a:off x="3420000" y="2997000"/>
            <a:ext cx="223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одательство Российской Федерации в сфере архивного дела и делопроизвод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3640" y="1628640"/>
            <a:ext cx="820872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2 октября 2004 года № 125-ФЗ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архивном деле в Российской Федер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02 марта 2016 года № 43-ФЗ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Федеральный зако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«Об архивном деле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18 июня 2017 года № 127-ФЗ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отдельные законодатель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8"/>
          <p:cNvSpPr/>
          <p:nvPr/>
        </p:nvSpPr>
        <p:spPr>
          <a:xfrm>
            <a:off x="467640" y="1196640"/>
            <a:ext cx="8352720" cy="5445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619640" y="1556640"/>
            <a:ext cx="572472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Срок 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До замены новы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827640" y="3573000"/>
            <a:ext cx="7560360" cy="2304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Применяется к копиям нормативных документов, которые присылаются в организацию для использования в работе, и означает, что данные документы хранятся до их отмены и замены н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7"/>
          <p:cNvSpPr/>
          <p:nvPr/>
        </p:nvSpPr>
        <p:spPr>
          <a:xfrm>
            <a:off x="3492000" y="2781000"/>
            <a:ext cx="223200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0"/>
          <p:cNvSpPr/>
          <p:nvPr/>
        </p:nvSpPr>
        <p:spPr>
          <a:xfrm>
            <a:off x="323640" y="1268640"/>
            <a:ext cx="8568720" cy="53730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1691640" y="1412640"/>
            <a:ext cx="572472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Срок 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50/75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611640" y="3213000"/>
            <a:ext cx="7992360" cy="1872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 хранения документов по личному составу, законченных делопроизводством </a:t>
            </a:r>
            <a:r>
              <a:rPr b="1" lang="ru-RU" sz="2000" spc="-1" strike="noStrike">
                <a:solidFill>
                  <a:srgbClr val="1e1c11"/>
                </a:solidFill>
                <a:latin typeface="Times New Roman"/>
              </a:rPr>
              <a:t>до 1 января 2003 года, составляет 75 лет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 хранения документов по личному составу, законченных делопроизводством </a:t>
            </a:r>
            <a:r>
              <a:rPr b="1" lang="ru-RU" sz="2000" spc="-1" strike="noStrike">
                <a:solidFill>
                  <a:srgbClr val="1e1c11"/>
                </a:solidFill>
                <a:latin typeface="Times New Roman"/>
              </a:rPr>
              <a:t>после 1 января 2003 года, составляет 5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7"/>
          <p:cNvSpPr/>
          <p:nvPr/>
        </p:nvSpPr>
        <p:spPr>
          <a:xfrm>
            <a:off x="3492000" y="2637000"/>
            <a:ext cx="223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611640" y="5229360"/>
            <a:ext cx="8136720" cy="129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по истечении данных сроков хранения документы по личному составу, образовавшиеся в процессе деятельности источников комплектования государственных и муниципальных архивов, </a:t>
            </a:r>
            <a:r>
              <a:rPr b="1" lang="ru-RU" sz="2000" spc="-1" strike="noStrike">
                <a:solidFill>
                  <a:srgbClr val="1e1c11"/>
                </a:solidFill>
                <a:latin typeface="Times New Roman"/>
              </a:rPr>
              <a:t>подлежат экспертизе ц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4"/>
          <p:cNvSpPr/>
          <p:nvPr/>
        </p:nvSpPr>
        <p:spPr>
          <a:xfrm>
            <a:off x="323640" y="1196640"/>
            <a:ext cx="8568720" cy="5445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395640" y="1917000"/>
            <a:ext cx="2952000" cy="1800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Отметка «ЭП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4644000" y="1772640"/>
            <a:ext cx="3888000" cy="3384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к срокам хранения отдельных видов документов, означает, что указанные документы или часть указанных документов могут быть отобраны на постоянное хранение по результатам экспертизы их ц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1"/>
          <p:cNvSpPr/>
          <p:nvPr/>
        </p:nvSpPr>
        <p:spPr>
          <a:xfrm>
            <a:off x="3348000" y="2205000"/>
            <a:ext cx="1295640" cy="1348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611640" y="4941000"/>
            <a:ext cx="5760360" cy="1439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Снижение сроков хранения, установленных Перечнем, запрещается</a:t>
            </a:r>
            <a:r>
              <a:rPr b="1" lang="en-US" sz="2800" spc="-1" strike="noStrike">
                <a:solidFill>
                  <a:srgbClr val="1e1c11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640" y="1124640"/>
            <a:ext cx="8496720" cy="55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>
              <a:lnSpc>
                <a:spcPct val="90000"/>
              </a:lnSpc>
              <a:buClr>
                <a:srgbClr val="ffffff"/>
              </a:buClr>
              <a:buFont typeface="Libre Baskerville"/>
              <a:buChar char="▣"/>
              <a:tabLst>
                <a:tab algn="l" pos="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Организации вправе продлевать сроки временного хранения документов при проведении экспертизы ценности доку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>
              <a:lnSpc>
                <a:spcPct val="90000"/>
              </a:lnSpc>
              <a:buClr>
                <a:srgbClr val="ffffff"/>
              </a:buClr>
              <a:buFont typeface="Libre Baskerville"/>
              <a:buChar char="▣"/>
              <a:tabLst>
                <a:tab algn="l" pos="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овышение установленных Перечнем сроков хранения допускается в тех случаях, когда это обусловлено особенностями работы конкретной организации и ее практическими потреб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2"/>
          <p:cNvSpPr/>
          <p:nvPr/>
        </p:nvSpPr>
        <p:spPr>
          <a:xfrm>
            <a:off x="251640" y="1196640"/>
            <a:ext cx="8640720" cy="5373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именения Перечн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323640" y="2061000"/>
            <a:ext cx="4032000" cy="16340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e1c11"/>
                </a:solidFill>
                <a:latin typeface="Times New Roman"/>
              </a:rPr>
              <a:t>федеральные органы государственной власти, иные государственные органы Российской Федерации, органы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179640" y="4509000"/>
            <a:ext cx="4392000" cy="2088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еречней документов, образующихся в процессе их деятельности, а также в процессе деятельности подведомственных им организаций, с указанием сроков и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х и примерных номенклатур 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4860000" y="2133000"/>
            <a:ext cx="3816000" cy="158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5004000" y="4509000"/>
            <a:ext cx="3744000" cy="1439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номенклатур 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8"/>
          <p:cNvSpPr/>
          <p:nvPr/>
        </p:nvSpPr>
        <p:spPr>
          <a:xfrm>
            <a:off x="5940000" y="3717000"/>
            <a:ext cx="1656000" cy="791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Стрелка вниз 9"/>
          <p:cNvSpPr/>
          <p:nvPr/>
        </p:nvSpPr>
        <p:spPr>
          <a:xfrm>
            <a:off x="3636000" y="1268640"/>
            <a:ext cx="1872000" cy="863640"/>
          </a:xfrm>
          <a:prstGeom prst="downArrow">
            <a:avLst>
              <a:gd name="adj1" fmla="val 50000"/>
              <a:gd name="adj2" fmla="val 41937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Стрелка вниз 10"/>
          <p:cNvSpPr/>
          <p:nvPr/>
        </p:nvSpPr>
        <p:spPr>
          <a:xfrm>
            <a:off x="1331640" y="3717000"/>
            <a:ext cx="165600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6"/>
          <p:cNvSpPr/>
          <p:nvPr/>
        </p:nvSpPr>
        <p:spPr>
          <a:xfrm>
            <a:off x="251640" y="1268640"/>
            <a:ext cx="8640720" cy="5373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именения Перечн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323640" y="1700640"/>
            <a:ext cx="3888000" cy="12020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При разработке ведомственных перечней доку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716000" y="1700640"/>
            <a:ext cx="4176000" cy="1151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 подготовке номенклатур дел исполь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251640" y="3573000"/>
            <a:ext cx="4392000" cy="1151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труктура Переч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видовой состав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и хранения док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4788000" y="3573000"/>
            <a:ext cx="3960000" cy="1151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видовой состав док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и хранения док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251640" y="5013000"/>
            <a:ext cx="4392000" cy="165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0" lang="ru-RU" sz="1800" spc="-1" strike="noStrike">
                <a:solidFill>
                  <a:srgbClr val="1e1c11"/>
                </a:solidFill>
                <a:latin typeface="Times New Roman"/>
              </a:rPr>
              <a:t>Сроки хранения документов в перечнях не могут быть  ниже тех сроков, которые установлены Перечнем для  документов того же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4751640" y="5013000"/>
            <a:ext cx="4140720" cy="165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0" lang="ru-RU" sz="1600" spc="-1" strike="noStrike">
                <a:solidFill>
                  <a:srgbClr val="1e1c11"/>
                </a:solidFill>
                <a:latin typeface="Times New Roman"/>
              </a:rPr>
              <a:t>Наименования видов документов конкретизиру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600" spc="-1" strike="noStrike">
                <a:solidFill>
                  <a:srgbClr val="1e1c11"/>
                </a:solidFill>
                <a:latin typeface="Times New Roman"/>
              </a:rPr>
              <a:t>К сроку хранения дается ссылка на статью Перечня. При наличии других перечней, типовых или примерных номенклатур дел дается ссылка на соответствующий перечень (номенклатур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9"/>
          <p:cNvSpPr/>
          <p:nvPr/>
        </p:nvSpPr>
        <p:spPr>
          <a:xfrm>
            <a:off x="3636000" y="1052640"/>
            <a:ext cx="165600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Стрелка вниз 10"/>
          <p:cNvSpPr/>
          <p:nvPr/>
        </p:nvSpPr>
        <p:spPr>
          <a:xfrm>
            <a:off x="1691640" y="2925000"/>
            <a:ext cx="13676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Стрелка вниз 11"/>
          <p:cNvSpPr/>
          <p:nvPr/>
        </p:nvSpPr>
        <p:spPr>
          <a:xfrm>
            <a:off x="6012000" y="2853000"/>
            <a:ext cx="1367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Стрелка вниз 12"/>
          <p:cNvSpPr/>
          <p:nvPr/>
        </p:nvSpPr>
        <p:spPr>
          <a:xfrm>
            <a:off x="1979640" y="4725000"/>
            <a:ext cx="791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Стрелка вниз 17"/>
          <p:cNvSpPr/>
          <p:nvPr/>
        </p:nvSpPr>
        <p:spPr>
          <a:xfrm>
            <a:off x="6300360" y="4653000"/>
            <a:ext cx="791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358920" y="1196640"/>
            <a:ext cx="8461080" cy="28033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е органы Российской Федерации и государственные органы субъектов Российской Федерации, имеющие подведомственные организации, вправе разрабатывать и утверждать по согласованию с уполномоченным федеральным органом исполнительной власти в сфере архивного дела и делопроизводства или с соответствующим уполномоченным органом исполнительной власти субъекта Российской Федерации в сфере архивного дела типовые и примерные номенклатуры дел для подведомственных орган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6"/>
          <p:cNvSpPr/>
          <p:nvPr/>
        </p:nvSpPr>
        <p:spPr>
          <a:xfrm>
            <a:off x="323640" y="4293000"/>
            <a:ext cx="3960000" cy="2160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иповая номенклатура де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ет состав дел, заводимых в организациях определенного типа, и является нормативным доку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7"/>
          <p:cNvSpPr/>
          <p:nvPr/>
        </p:nvSpPr>
        <p:spPr>
          <a:xfrm>
            <a:off x="4716000" y="4293000"/>
            <a:ext cx="4032000" cy="2160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мерная номенклатура де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ет примерный состав дел, заводимых в однотипных организациях, на которые она распространяется, и является рекомендательным доку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19"/>
          <p:cNvSpPr/>
          <p:nvPr/>
        </p:nvSpPr>
        <p:spPr>
          <a:xfrm>
            <a:off x="3564000" y="3861000"/>
            <a:ext cx="180000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395640" y="1268640"/>
            <a:ext cx="8461080" cy="52711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менклатура дел государственного орган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яется для обеспечения порядка формирования и учета дел в делопроизводств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яет классификацию (группировку) документов в дела (электронные дел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зацию и индексацию дел, сроки их хран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основным учетным докумен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ается в СЭД в качестве справочника, определяющего порядок систематизации электронных документов (электронных копий документов), включаемых в СЭ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95640" y="1556640"/>
            <a:ext cx="5760360" cy="478224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менклатура дел является основой для составления описей дел структурных подразделений постоянного, временных (свыше 10 лет) сроков хранения, в том числе по личному состав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ов о выделении к уничтожению доку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подлежащих хранению, а также для учета дел временных (до 10 лет включительно) сроков хра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3" descr="9images.jpg"/>
          <p:cNvPicPr/>
          <p:nvPr/>
        </p:nvPicPr>
        <p:blipFill>
          <a:blip r:embed="rId1"/>
          <a:stretch/>
        </p:blipFill>
        <p:spPr>
          <a:xfrm>
            <a:off x="6300360" y="2565000"/>
            <a:ext cx="26373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323640" y="1268640"/>
            <a:ext cx="8533080" cy="514764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составлении номенклатуры дел следует руководствовать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конодательством Российской Федераци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конодательством субъекта Российской Федерации, определяющим деятельность государственного орган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ожением о государственном орган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гламентом государственного органа, положениями о структурных подразделения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татным расписание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лановой и отчетной документацие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оменклатурой дел за прошедшие год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ормативными актами государственного органа, содержащими сведения об образующихся в деятельности докумен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иповыми и примерными номенклатурами дел (при их наличии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чнями типовых документов, ведомственными перечн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одательство Российской Федерации в сфере архивного дела и делопроизвод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640" y="1628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9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Министерства культуры Российской Федерации от 31.03.2015 № 526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Об утверждении Правил организации хранения, комплектования, учета и использования документов Архивного фонда Российск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и других архивных документов в государственных органа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рганах местного самоуправления и организациях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9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Федерального архивного агентства от 29.05.2019</a:t>
            </a:r>
            <a:r>
              <a:rPr b="1" i="1" lang="en-US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№ 71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Об утверждении правил делопроизводства в государственных органах, органах местного самоуправления»</a:t>
            </a:r>
            <a:br>
              <a:rPr sz="2400"/>
            </a:b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251640" y="1052640"/>
            <a:ext cx="8496720" cy="411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нклатура дел государственного органа составляется на основе изучения состава и содержания документов, образующихся в его деятельности, включая документы, поступившие из других государственных органов, из органов местного самоуправления, организаций,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нклатура дел государственного органа, (сводная) составляется Службой делопроизводства на основании номенклатур дел структурных подразделений (направлений деятельности) по форм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ным Правилами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rcRect l="7920" t="7025" r="4296" b="0"/>
          <a:stretch/>
        </p:blipFill>
        <p:spPr>
          <a:xfrm>
            <a:off x="4932000" y="4509000"/>
            <a:ext cx="4032000" cy="21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6"/>
          <p:cNvSpPr/>
          <p:nvPr/>
        </p:nvSpPr>
        <p:spPr>
          <a:xfrm>
            <a:off x="179640" y="5733360"/>
            <a:ext cx="4536000" cy="9140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ем государственного 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9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251640" y="3645000"/>
            <a:ext cx="396000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ЦЭК (ЭК)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4860000" y="3573000"/>
            <a:ext cx="4032000" cy="2448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ин раз в 5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экспертно-проверочной комиссией (далее – ЭПК) уполномоченного органа исполнительной власти субъекта Российской Федерации в сфере архивного 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1331640" y="1052640"/>
            <a:ext cx="6552360" cy="719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нклатура дел государственного 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низ 20"/>
          <p:cNvSpPr/>
          <p:nvPr/>
        </p:nvSpPr>
        <p:spPr>
          <a:xfrm>
            <a:off x="2771640" y="2781000"/>
            <a:ext cx="3672000" cy="935640"/>
          </a:xfrm>
          <a:prstGeom prst="downArrow">
            <a:avLst>
              <a:gd name="adj1" fmla="val 70560"/>
              <a:gd name="adj2" fmla="val 38681"/>
            </a:avLst>
          </a:prstGeom>
          <a:solidFill>
            <a:schemeClr val="accent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Times New Roman"/>
              </a:rPr>
              <a:t>согласов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251640" y="1845000"/>
            <a:ext cx="8208720" cy="93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 номенклатуры подписывается руководителем Службы делопроизводств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руется руководителем архива (лицом, ответственным за архи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низ 22"/>
          <p:cNvSpPr/>
          <p:nvPr/>
        </p:nvSpPr>
        <p:spPr>
          <a:xfrm>
            <a:off x="467640" y="4797000"/>
            <a:ext cx="3672000" cy="935640"/>
          </a:xfrm>
          <a:prstGeom prst="downArrow">
            <a:avLst>
              <a:gd name="adj1" fmla="val 70560"/>
              <a:gd name="adj2" fmla="val 38681"/>
            </a:avLst>
          </a:prstGeom>
          <a:solidFill>
            <a:schemeClr val="accent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Times New Roman"/>
              </a:rPr>
              <a:t>утвержд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право 23"/>
          <p:cNvSpPr/>
          <p:nvPr/>
        </p:nvSpPr>
        <p:spPr>
          <a:xfrm>
            <a:off x="4212000" y="4149000"/>
            <a:ext cx="6476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251640" y="4293000"/>
            <a:ext cx="8461080" cy="25585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е изменения функций и структуры государственног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а номенклатура де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лежит пересоставлению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ованию с ЭП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полномоченного орг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нительной власти субъекта Российской Федер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 сфере архивного дела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верждается зан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251640" y="1412640"/>
            <a:ext cx="8533080" cy="25585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каждого года номенклатура дел государственног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а уточняется и утверждается руководителем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го орг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ная номенклатура де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одится в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-го января следующего календарн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23640" y="1484640"/>
            <a:ext cx="8533080" cy="450828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овь созданное или реорганизованное структурное подразделение долж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есячный ср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ть номенклатуру дел и представить ее в Службу делопроизво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менклатура дел вновь созданного структурного подразделения согласовывается и утвержд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утверждения присоединяется к действующей номенклатуре дел государственного орг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одательство Российской Федерации в сфере архивного дела и делопроизвод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640" y="1700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09040">
              <a:lnSpc>
                <a:spcPct val="8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Министерства культуры Российской Федерации от 17.12.2019     № 1964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«О признании утратившим силу приказ Министерства культуры Российской Федерации от 25.08.2010 № 558 «Об утверждении «Перечня типовых управленческих архивных документов, образующихся в процессе деятельности государственных органов, органов местного самоуправления и организаций, с указанием сроков хране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09040">
              <a:lnSpc>
                <a:spcPct val="8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Федерального архивного агентства от 20.12.2019 № 236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Об утверждении Перечня типовых управленческих архивных документов, образующихся в процессе деятельности государственных органов, органов местного самоуправления и организаций,  с указанием сроков их хране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одательство Российской Федерации в сфере архивного дела и делопроизвод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640" y="1700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Федерального архивного агентства от 20.12.20</a:t>
            </a:r>
            <a:r>
              <a:rPr b="1" i="1" lang="en-US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9 № 237 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Об утверждении Инструкции по применению Перечня типовых управленческих архивных документов, образующихся в процессе деятельности государственных органов, органов местного самоуправления и организаций, с указанием сроков их хранения»</a:t>
            </a:r>
            <a:r>
              <a:rPr b="0" lang="en-US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Разъяснения по внедрению Перечня типовых управленческих архивных документов</a:t>
            </a:r>
            <a:r>
              <a:rPr b="0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образующихся в процессе деятельности государственных органов, органов местного самоуправления и организаций с указанием сроков их хранения. Опубликованы на официальном сайте Росархива 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 u="sng">
                <a:solidFill>
                  <a:srgbClr val="000019"/>
                </a:solidFill>
                <a:uFillTx/>
                <a:latin typeface="Times New Roman"/>
                <a:ea typeface="Times New Roman"/>
                <a:hlinkClick r:id="rId1"/>
              </a:rPr>
              <a:t>http://archives.ru/press/12-03-2020.shtml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ый закон № 125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9640" y="1700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рхивные документы включаются в состав Архивного фонда Российской Федерации на основан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изы ценности доку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proverki.jpg"/>
          <p:cNvPicPr/>
          <p:nvPr/>
        </p:nvPicPr>
        <p:blipFill>
          <a:blip r:embed="rId1"/>
          <a:stretch/>
        </p:blipFill>
        <p:spPr>
          <a:xfrm>
            <a:off x="179640" y="4365000"/>
            <a:ext cx="2808000" cy="2004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2771640" y="3213000"/>
            <a:ext cx="6048360" cy="2952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тиза ценности документ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ение документов на основании критериев их ценности в целях определения сроков хранения документов и отбора их для включения  в состав Архивного фонд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тья 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ого закона № 125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640" y="1700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олномоченный федеральный орган исполнительной власти в сфере архивного дела и делопроизводства утверждает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ни типовых архивных документов с указанием сроков их хра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и по применению этих переч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шение вопросов о включении в состав Архивного фонда Российской Федерации конкретных документов осуществляется экспертно-проверочными комиссиями федеральных государственных архивов и уполномоченных органов исполнительной власти субъектов Российской Федерации в сфере архивного дела в пределах их компет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тья 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ого закона № 125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9640" y="1484640"/>
            <a:ext cx="8784720" cy="53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8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кспертиза ценности документов осуществляется уполномоченным органом исполнительной власти субъекта Российской Федерации в сфере архивного дела, государственным архив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собственнико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ладельцем архивных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Экспертизе ценности докумен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лежат все документы на носителях любого ви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ходящиеся в федеральной собственности, собственности субъекта Российской Федерации или муниципальной собств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539640" y="5517360"/>
            <a:ext cx="8208720" cy="1151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проведения в установлен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тизы ценности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ничтожение документов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тья 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ого закона № 125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9640" y="1340640"/>
            <a:ext cx="8784720" cy="53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34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временного хранения документов Архивного фонда Российской Федерации до их передачи на постоянное хранение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ключенных в установленном порядке в состав Архивного фонда РФ документов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едеральных органов государственной власти, иных государственных органов Российской Федерации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рганов государственной власти, иных государственных органов субъектов Российской Федерации и организаций субъектов Российской Федерации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лет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рганов местного самоуправления и муниципальных организаций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ля включенных в установленном порядке в состав Архивного фонда Российской Федерации отдельных видов архивных документов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аписей актов гражданского состояния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записей нотариальных действий, похозяйственных книг и касающихся приватизации жилищного фонда документов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ектной документации по капитальному строительству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ехнологической и конструкторской документации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патентов на изобретение, полезную модель, промышленный образец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научной документации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кино- и фотодокументов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видео- и фонодокументов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да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  <Words>1974</Words>
  <Paragraphs>2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07:52:57Z</dcterms:created>
  <dc:creator>Acer</dc:creator>
  <dc:description/>
  <dc:language>en-US</dc:language>
  <cp:lastModifiedBy>Acer</cp:lastModifiedBy>
  <dcterms:modified xsi:type="dcterms:W3CDTF">2020-08-23T09:58:21Z</dcterms:modified>
  <cp:revision>181</cp:revision>
  <dc:subject/>
  <dc:title>Екатеринбург 20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3</vt:r8>
  </property>
</Properties>
</file>