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BC74-7D20-4D80-8FA7-CBC4503BD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BFE0-9EA8-4FD2-BC80-65E18E9F6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A11D-9F01-4550-AFD9-EFFBDA935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A8A4-CF54-452C-BB66-764870901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3CCA-97FC-4D6E-804C-77921B57B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72DA-798C-474B-927B-2DBE48E8B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A21D-2FB3-46DD-ACCB-BE34BF5BD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5829-5953-46F5-B225-D22FB78A6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7A03-3F58-4B4B-B257-FCF89E0F1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1811-6BA5-4017-8B5E-3C9BB49B4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BD1A-2DA1-4CF7-917C-8DFBA218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E4D0-AD91-4A9E-B207-07259271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CC7029A-BF60-49A0-8438-6E7F15A866C3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archives.ru/press/12-03-2020.shtml" TargetMode="External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e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75640" y="5157360"/>
            <a:ext cx="6476760" cy="110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Екатеринбург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2020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640" y="548640"/>
            <a:ext cx="8280720" cy="4320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Порядок экспертизы ценности и составления номенклатуры дел в государственном орган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4" descr="9images.jpg"/>
          <p:cNvPicPr/>
          <p:nvPr/>
        </p:nvPicPr>
        <p:blipFill>
          <a:blip r:embed="rId1"/>
          <a:stretch/>
        </p:blipFill>
        <p:spPr>
          <a:xfrm>
            <a:off x="539640" y="4077000"/>
            <a:ext cx="2637360" cy="24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640" y="0"/>
            <a:ext cx="8280720" cy="122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авила организации хранения, комплектования, учета и использования документов Архивного фонда Российской Федерации и других архивных документов в государственных органах, органах местного самоуправления и организациях, 2015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251640" y="1412640"/>
            <a:ext cx="8496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ю экспертизы ценности документов в организации явля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бор документов для включения в состав Архивного фонда РФ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е документов, не подлежащих дальнейшему хранению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тиза ценности документов в организации проводи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трелка вниз 5"/>
          <p:cNvSpPr/>
          <p:nvPr/>
        </p:nvSpPr>
        <p:spPr>
          <a:xfrm>
            <a:off x="2123640" y="3285000"/>
            <a:ext cx="1367640" cy="64764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accent1">
              <a:lumMod val="60000"/>
              <a:lumOff val="4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6" name="Стрелка вниз 6"/>
          <p:cNvSpPr/>
          <p:nvPr/>
        </p:nvSpPr>
        <p:spPr>
          <a:xfrm>
            <a:off x="5508000" y="3285000"/>
            <a:ext cx="1367640" cy="64764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accent1">
              <a:lumMod val="60000"/>
              <a:lumOff val="4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67" name="Рисунок 7" descr="д11.jpg"/>
          <p:cNvPicPr/>
          <p:nvPr/>
        </p:nvPicPr>
        <p:blipFill>
          <a:blip r:embed="rId1"/>
          <a:stretch/>
        </p:blipFill>
        <p:spPr>
          <a:xfrm>
            <a:off x="3564000" y="4221000"/>
            <a:ext cx="2142720" cy="2142720"/>
          </a:xfrm>
          <a:prstGeom prst="rect">
            <a:avLst/>
          </a:prstGeom>
          <a:ln w="9525">
            <a:noFill/>
          </a:ln>
        </p:spPr>
      </p:pic>
      <p:sp>
        <p:nvSpPr>
          <p:cNvPr id="68" name="Прямоугольник 4"/>
          <p:cNvSpPr/>
          <p:nvPr/>
        </p:nvSpPr>
        <p:spPr>
          <a:xfrm>
            <a:off x="5364000" y="3933000"/>
            <a:ext cx="3384000" cy="259200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рхиве организации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процессе подготовки дел к передаче на постоянное хран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3"/>
          <p:cNvSpPr/>
          <p:nvPr/>
        </p:nvSpPr>
        <p:spPr>
          <a:xfrm>
            <a:off x="467640" y="3933000"/>
            <a:ext cx="3312000" cy="266400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лопроизводств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при составлении номенклатуры дел организации и при подготовке дел к передач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архи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640" y="0"/>
            <a:ext cx="8280720" cy="1052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авила делопроизводства в государственных органах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51640" y="1124640"/>
            <a:ext cx="8640720" cy="55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827640" y="1845000"/>
            <a:ext cx="7704360" cy="30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организации и проведения работы по экспертизе ценности документов в государственном органе приказом руководител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здается экспертная комиссия, центральная экспертная комиссия (ЭК, ЦЭК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дачи, функции, права, организация работы ЭК (ЦЭК) определяются положением о ней, утверждаемом правовым актом государственного орг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9" descr="д64.jpg"/>
          <p:cNvPicPr/>
          <p:nvPr/>
        </p:nvPicPr>
        <p:blipFill>
          <a:blip r:embed="rId1"/>
          <a:stretch/>
        </p:blipFill>
        <p:spPr>
          <a:xfrm>
            <a:off x="5940000" y="4797000"/>
            <a:ext cx="2619000" cy="174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640" y="0"/>
            <a:ext cx="8280720" cy="1052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marL="457200"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авила делопроизводства в государственных органах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251640" y="1124640"/>
            <a:ext cx="8640720" cy="55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683640" y="1412640"/>
            <a:ext cx="806436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кспертиза ценности документов проводится на основе федеральных законов, иных нормативных правовых актов Российской Федерации, перечней типовых архивных документов с указанием сроков хранения, перечней документов, образующихся в процессе деятельности федеральных органов государственной власти, иных государственных органов Российской Федерации, а также в процессе деятельности подведомственных им организаци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указанием сроков хра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640" y="0"/>
            <a:ext cx="8280720" cy="1052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авила делопроизводства в государственных органах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251640" y="1124640"/>
            <a:ext cx="8640720" cy="55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5"/>
          <p:cNvSpPr/>
          <p:nvPr/>
        </p:nvSpPr>
        <p:spPr>
          <a:xfrm>
            <a:off x="683640" y="1196640"/>
            <a:ext cx="820872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результатам экспертизы ценности документов в государственном органе, составляютс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иси дел структурных подраздел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тоянного хране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ременных (свыше 10 лет) сроков хранен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иси дел по личному состав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водится оформление де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ставляются акты о выделении к уничтожению дел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е подлежащих хран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оугольник 9"/>
          <p:cNvSpPr/>
          <p:nvPr/>
        </p:nvSpPr>
        <p:spPr>
          <a:xfrm>
            <a:off x="395640" y="1628640"/>
            <a:ext cx="8568720" cy="4968360"/>
          </a:xfrm>
          <a:prstGeom prst="rect">
            <a:avLst/>
          </a:prstGeom>
          <a:solidFill>
            <a:schemeClr val="tx2">
              <a:lumMod val="60000"/>
              <a:lumOff val="4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1" name="Стрелка вниз 4"/>
          <p:cNvSpPr/>
          <p:nvPr/>
        </p:nvSpPr>
        <p:spPr>
          <a:xfrm>
            <a:off x="2699640" y="1700640"/>
            <a:ext cx="3672000" cy="86364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accent1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2" name="Прямоугольник 5"/>
          <p:cNvSpPr/>
          <p:nvPr/>
        </p:nvSpPr>
        <p:spPr>
          <a:xfrm>
            <a:off x="827640" y="2565000"/>
            <a:ext cx="2952000" cy="345600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2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является нормативным правовым актом, устанавливающим сроки хранения типовых управленческих архивных докумен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6"/>
          <p:cNvSpPr/>
          <p:nvPr/>
        </p:nvSpPr>
        <p:spPr>
          <a:xfrm>
            <a:off x="5148000" y="2565000"/>
            <a:ext cx="3384000" cy="345600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2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включает виды документов, образующихся при документировании однотипных управленческих функций общих  для большинства организац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Заголовок 1"/>
          <p:cNvSpPr/>
          <p:nvPr/>
        </p:nvSpPr>
        <p:spPr>
          <a:xfrm>
            <a:off x="395640" y="260640"/>
            <a:ext cx="8496720" cy="980280"/>
          </a:xfrm>
          <a:prstGeom prst="rect">
            <a:avLst/>
          </a:prstGeom>
          <a:solidFill>
            <a:schemeClr val="bg1">
              <a:lumMod val="9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значение Перечня типовых докум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0"/>
          <p:cNvSpPr/>
          <p:nvPr/>
        </p:nvSpPr>
        <p:spPr>
          <a:xfrm>
            <a:off x="323640" y="1340640"/>
            <a:ext cx="8568720" cy="5256360"/>
          </a:xfrm>
          <a:prstGeom prst="rect">
            <a:avLst/>
          </a:prstGeom>
          <a:solidFill>
            <a:schemeClr val="tx2">
              <a:lumMod val="60000"/>
              <a:lumOff val="40000"/>
            </a:schemeClr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640" y="0"/>
            <a:ext cx="8280720" cy="10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marL="45720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пределение сроков хранения документ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угольник 5"/>
          <p:cNvSpPr/>
          <p:nvPr/>
        </p:nvSpPr>
        <p:spPr>
          <a:xfrm>
            <a:off x="539640" y="2277000"/>
            <a:ext cx="8064360" cy="12236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93560" indent="-369720" algn="ctr">
              <a:lnSpc>
                <a:spcPct val="100000"/>
              </a:lnSpc>
              <a:buClr>
                <a:srgbClr val="ffffff"/>
              </a:buClr>
              <a:buFont typeface="Libre Baskerville"/>
              <a:buChar char="▣"/>
            </a:pPr>
            <a:r>
              <a:rPr b="0" lang="ru-RU" sz="2000" spc="-1" strike="noStrike">
                <a:solidFill>
                  <a:srgbClr val="1e1c11"/>
                </a:solidFill>
                <a:latin typeface="Times New Roman"/>
              </a:rPr>
              <a:t>Сроки хранения архивных документов независимо от места их хранения </a:t>
            </a:r>
            <a:r>
              <a:rPr b="1" lang="ru-RU" sz="2000" spc="-1" strike="noStrike" u="sng">
                <a:solidFill>
                  <a:srgbClr val="1e1c11"/>
                </a:solidFill>
                <a:uFillTx/>
                <a:latin typeface="Times New Roman"/>
              </a:rPr>
              <a:t>исчисляются с 1 января года, следующего за годом, </a:t>
            </a:r>
            <a:br>
              <a:rPr sz="2000"/>
            </a:br>
            <a:r>
              <a:rPr b="1" lang="ru-RU" sz="2000" spc="-1" strike="noStrike" u="sng">
                <a:solidFill>
                  <a:srgbClr val="1e1c11"/>
                </a:solidFill>
                <a:uFillTx/>
                <a:latin typeface="Times New Roman"/>
              </a:rPr>
              <a:t>в котором они были закончены делопроизводством</a:t>
            </a:r>
            <a:r>
              <a:rPr b="0" lang="ru-RU" sz="2000" spc="-1" strike="noStrike">
                <a:solidFill>
                  <a:srgbClr val="1e1c11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6"/>
          <p:cNvSpPr/>
          <p:nvPr/>
        </p:nvSpPr>
        <p:spPr>
          <a:xfrm>
            <a:off x="539640" y="4005000"/>
            <a:ext cx="8136720" cy="12956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93560" indent="-216000" algn="ctr">
              <a:lnSpc>
                <a:spcPct val="100000"/>
              </a:lnSpc>
              <a:buClr>
                <a:srgbClr val="ffffff"/>
              </a:buClr>
              <a:buFont typeface="Libre Baskerville"/>
              <a:buChar char="▣"/>
            </a:pPr>
            <a:r>
              <a:rPr b="0" lang="ru-RU" sz="2000" spc="-1" strike="noStrike">
                <a:solidFill>
                  <a:srgbClr val="1e1c11"/>
                </a:solidFill>
                <a:latin typeface="Times New Roman"/>
              </a:rPr>
              <a:t>Временные сроки хранения реестров, книг, журналов </a:t>
            </a:r>
            <a:r>
              <a:rPr b="1" lang="ru-RU" sz="2000" spc="-1" strike="noStrike" u="sng">
                <a:solidFill>
                  <a:srgbClr val="1e1c11"/>
                </a:solidFill>
                <a:uFillTx/>
                <a:latin typeface="Times New Roman"/>
              </a:rPr>
              <a:t>исчисляются с 1 января года, следующего за годом,</a:t>
            </a:r>
            <a:br>
              <a:rPr sz="2000"/>
            </a:br>
            <a:r>
              <a:rPr b="1" lang="ru-RU" sz="2000" spc="-1" strike="noStrike" u="sng">
                <a:solidFill>
                  <a:srgbClr val="1e1c11"/>
                </a:solidFill>
                <a:uFillTx/>
                <a:latin typeface="Times New Roman"/>
              </a:rPr>
              <a:t> в котором было завершено их вед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7"/>
          <p:cNvSpPr/>
          <p:nvPr/>
        </p:nvSpPr>
        <p:spPr>
          <a:xfrm>
            <a:off x="755640" y="5562000"/>
            <a:ext cx="7704360" cy="89100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93560" indent="-369720">
              <a:lnSpc>
                <a:spcPct val="100000"/>
              </a:lnSpc>
              <a:buClr>
                <a:srgbClr val="ffffff"/>
              </a:buClr>
              <a:buFont typeface="Libre Baskerville"/>
              <a:buChar char="▣"/>
            </a:pPr>
            <a:r>
              <a:rPr b="1" i="1" lang="ru-RU" sz="2400" spc="-1" strike="noStrike">
                <a:solidFill>
                  <a:srgbClr val="1e1c11"/>
                </a:solidFill>
                <a:latin typeface="Times New Roman"/>
              </a:rPr>
              <a:t>Сроки хранения документов не зависят от вида носителя и ограничения доступа к н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трелка вниз 11"/>
          <p:cNvSpPr/>
          <p:nvPr/>
        </p:nvSpPr>
        <p:spPr>
          <a:xfrm>
            <a:off x="2627640" y="1340640"/>
            <a:ext cx="3672000" cy="86364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tx2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9"/>
          <p:cNvSpPr/>
          <p:nvPr/>
        </p:nvSpPr>
        <p:spPr>
          <a:xfrm>
            <a:off x="323640" y="1412640"/>
            <a:ext cx="8496720" cy="5229000"/>
          </a:xfrm>
          <a:prstGeom prst="rect">
            <a:avLst/>
          </a:prstGeom>
          <a:solidFill>
            <a:schemeClr val="tx2">
              <a:lumMod val="60000"/>
              <a:lumOff val="4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7640" y="0"/>
            <a:ext cx="8280720" cy="10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пределение сроков хранения документ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Стрелка вниз 4"/>
          <p:cNvSpPr/>
          <p:nvPr/>
        </p:nvSpPr>
        <p:spPr>
          <a:xfrm>
            <a:off x="2699640" y="1628640"/>
            <a:ext cx="3672000" cy="57564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tx2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4" name="Прямоугольник 5"/>
          <p:cNvSpPr/>
          <p:nvPr/>
        </p:nvSpPr>
        <p:spPr>
          <a:xfrm>
            <a:off x="611640" y="2421000"/>
            <a:ext cx="8064360" cy="12236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93560" indent="-369720">
              <a:lnSpc>
                <a:spcPct val="100000"/>
              </a:lnSpc>
              <a:buClr>
                <a:srgbClr val="ffffff"/>
              </a:buClr>
              <a:buFont typeface="Libre Baskerville"/>
              <a:buChar char="▣"/>
            </a:pPr>
            <a:r>
              <a:rPr b="0" lang="ru-RU" sz="28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После истечения сроков временного хранения документы подлежат уничтож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6"/>
          <p:cNvSpPr/>
          <p:nvPr/>
        </p:nvSpPr>
        <p:spPr>
          <a:xfrm>
            <a:off x="539640" y="3861000"/>
            <a:ext cx="8136720" cy="12956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93560" indent="-369720">
              <a:lnSpc>
                <a:spcPct val="100000"/>
              </a:lnSpc>
              <a:buClr>
                <a:srgbClr val="ffffff"/>
              </a:buClr>
              <a:buFont typeface="Libre Baskerville"/>
              <a:buChar char="▣"/>
            </a:pPr>
            <a:r>
              <a:rPr b="0" lang="ru-RU" sz="28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Уничтожение документов до истечения сроков их временного хранения запреща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7"/>
          <p:cNvSpPr/>
          <p:nvPr/>
        </p:nvSpPr>
        <p:spPr>
          <a:xfrm>
            <a:off x="755640" y="5373360"/>
            <a:ext cx="7704360" cy="12956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93560" indent="-369720">
              <a:lnSpc>
                <a:spcPct val="100000"/>
              </a:lnSpc>
              <a:buClr>
                <a:srgbClr val="ffffff"/>
              </a:buClr>
              <a:buFont typeface="Libre Baskerville"/>
              <a:buChar char="▣"/>
            </a:pPr>
            <a:r>
              <a:rPr b="0" lang="ru-RU" sz="24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Нарушение требований о хранении документов влечет за собой ответственность, предусмотренную законодательством Российской Фед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11"/>
          <p:cNvSpPr/>
          <p:nvPr/>
        </p:nvSpPr>
        <p:spPr>
          <a:xfrm>
            <a:off x="395640" y="1268640"/>
            <a:ext cx="8496720" cy="5373000"/>
          </a:xfrm>
          <a:prstGeom prst="rect">
            <a:avLst/>
          </a:prstGeom>
          <a:solidFill>
            <a:schemeClr val="tx2">
              <a:lumMod val="60000"/>
              <a:lumOff val="4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640" y="0"/>
            <a:ext cx="8280720" cy="10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пределение сроков хранения документ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Стрелка вниз 4"/>
          <p:cNvSpPr/>
          <p:nvPr/>
        </p:nvSpPr>
        <p:spPr>
          <a:xfrm>
            <a:off x="2699640" y="1268640"/>
            <a:ext cx="3672000" cy="57564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tx2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0" name="Подзаголовок 2"/>
          <p:cNvSpPr/>
          <p:nvPr/>
        </p:nvSpPr>
        <p:spPr>
          <a:xfrm>
            <a:off x="539640" y="1917000"/>
            <a:ext cx="8208720" cy="4580640"/>
          </a:xfrm>
          <a:prstGeom prst="rect">
            <a:avLst/>
          </a:prstGeom>
          <a:solidFill>
            <a:schemeClr val="bg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39000"/>
          </a:bodyPr>
          <a:p>
            <a:pPr>
              <a:lnSpc>
                <a:spcPct val="100000"/>
              </a:lnSpc>
              <a:spcBef>
                <a:spcPts val="40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000" indent="-303480">
              <a:lnSpc>
                <a:spcPct val="110000"/>
              </a:lnSpc>
              <a:buClr>
                <a:srgbClr val="ffffff"/>
              </a:buClr>
              <a:buFont typeface="Libre Baskerville"/>
              <a:buChar char="▣"/>
            </a:pPr>
            <a:r>
              <a:rPr b="0" lang="ru-RU" sz="4000" spc="-1" strike="noStrike">
                <a:solidFill>
                  <a:srgbClr val="1e1c11"/>
                </a:solidFill>
                <a:latin typeface="Times New Roman"/>
              </a:rPr>
              <a:t>Срок хранения </a:t>
            </a:r>
            <a:r>
              <a:rPr b="1" lang="ru-RU" sz="4000" spc="-1" strike="noStrike">
                <a:solidFill>
                  <a:srgbClr val="1e1c11"/>
                </a:solidFill>
                <a:latin typeface="Times New Roman"/>
              </a:rPr>
              <a:t>«Постоянно» </a:t>
            </a:r>
            <a:r>
              <a:rPr b="0" lang="ru-RU" sz="4000" spc="-1" strike="noStrike">
                <a:solidFill>
                  <a:srgbClr val="1e1c11"/>
                </a:solidFill>
                <a:latin typeface="Times New Roman"/>
              </a:rPr>
              <a:t>, установленный для определенных видов документов, означает, что указанные документы, образовавшиеся в деятельности источников комплектования государственных архивов, включаются в состав Архивного фонда Российской Федерации и подлежат передаче на постоянное хранение в соответствующие архивы после истечения сроков их временного хранения в организациях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05000" indent="-303480">
              <a:lnSpc>
                <a:spcPct val="110000"/>
              </a:lnSpc>
              <a:buClr>
                <a:srgbClr val="ffffff"/>
              </a:buClr>
              <a:buFont typeface="Libre Baskerville"/>
              <a:buChar char="▣"/>
            </a:pPr>
            <a:r>
              <a:rPr b="1" lang="ru-RU" sz="4200" spc="-1" strike="noStrike">
                <a:solidFill>
                  <a:srgbClr val="1e1c11"/>
                </a:solidFill>
                <a:latin typeface="Times New Roman"/>
              </a:rPr>
              <a:t>15 лет</a:t>
            </a:r>
            <a:r>
              <a:rPr b="0" lang="ru-RU" sz="4200" spc="-1" strike="noStrike">
                <a:solidFill>
                  <a:srgbClr val="1e1c11"/>
                </a:solidFill>
                <a:latin typeface="Times New Roman"/>
              </a:rPr>
              <a:t>  - для документов федеральных органов государственной власти, и федеральных организаций;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405000" indent="-303480">
              <a:lnSpc>
                <a:spcPct val="110000"/>
              </a:lnSpc>
              <a:buClr>
                <a:srgbClr val="ffffff"/>
              </a:buClr>
              <a:buFont typeface="Libre Baskerville"/>
              <a:buChar char="▣"/>
            </a:pPr>
            <a:r>
              <a:rPr b="1" lang="ru-RU" sz="4200" spc="-1" strike="noStrike">
                <a:solidFill>
                  <a:srgbClr val="1e1c11"/>
                </a:solidFill>
                <a:latin typeface="Times New Roman"/>
              </a:rPr>
              <a:t>10 лет </a:t>
            </a:r>
            <a:r>
              <a:rPr b="0" lang="ru-RU" sz="4200" spc="-1" strike="noStrike">
                <a:solidFill>
                  <a:srgbClr val="1e1c11"/>
                </a:solidFill>
                <a:latin typeface="Times New Roman"/>
              </a:rPr>
              <a:t>- для документов органов государственной власти, иных государственных органов субъектов Российской Федерации и организаций субъектов Российской Федерации;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405000" indent="-303480">
              <a:lnSpc>
                <a:spcPct val="110000"/>
              </a:lnSpc>
              <a:buClr>
                <a:srgbClr val="ffffff"/>
              </a:buClr>
              <a:buFont typeface="Libre Baskerville"/>
              <a:buChar char="▣"/>
            </a:pPr>
            <a:r>
              <a:rPr b="1" lang="ru-RU" sz="4200" spc="-1" strike="noStrike">
                <a:solidFill>
                  <a:srgbClr val="1e1c11"/>
                </a:solidFill>
                <a:latin typeface="Times New Roman"/>
              </a:rPr>
              <a:t>5 лет </a:t>
            </a:r>
            <a:r>
              <a:rPr b="0" lang="ru-RU" sz="4200" spc="-1" strike="noStrike">
                <a:solidFill>
                  <a:srgbClr val="1e1c11"/>
                </a:solidFill>
                <a:latin typeface="Times New Roman"/>
              </a:rPr>
              <a:t>- для документов органов местного самоуправления и муниципальных организаций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10"/>
          <p:cNvSpPr/>
          <p:nvPr/>
        </p:nvSpPr>
        <p:spPr>
          <a:xfrm>
            <a:off x="251640" y="1196640"/>
            <a:ext cx="8640720" cy="5445000"/>
          </a:xfrm>
          <a:prstGeom prst="rect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640" y="0"/>
            <a:ext cx="8280720" cy="10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пределение сроков хранения документ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оугольник 5"/>
          <p:cNvSpPr/>
          <p:nvPr/>
        </p:nvSpPr>
        <p:spPr>
          <a:xfrm>
            <a:off x="1547640" y="1556640"/>
            <a:ext cx="5724720" cy="12236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93560" indent="-369720" algn="ctr">
              <a:lnSpc>
                <a:spcPct val="9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рок хран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-369720" algn="ctr">
              <a:lnSpc>
                <a:spcPct val="9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До ликвидации организац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6"/>
          <p:cNvSpPr/>
          <p:nvPr/>
        </p:nvSpPr>
        <p:spPr>
          <a:xfrm>
            <a:off x="827640" y="3501000"/>
            <a:ext cx="7560360" cy="237600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1e1c11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1e1c11"/>
                </a:solidFill>
                <a:latin typeface="Times New Roman"/>
              </a:rPr>
              <a:t>- </a:t>
            </a:r>
            <a:r>
              <a:rPr b="0" lang="ru-RU" sz="2400" spc="-1" strike="noStrike">
                <a:solidFill>
                  <a:srgbClr val="1e1c11"/>
                </a:solidFill>
                <a:latin typeface="Times New Roman"/>
              </a:rPr>
              <a:t>указанные документы хранятся в организации до ее ликвидации, независимо от того, выступает или не выступает эта организация источником комплектования государственного или муниципального архи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трелка вниз 7"/>
          <p:cNvSpPr/>
          <p:nvPr/>
        </p:nvSpPr>
        <p:spPr>
          <a:xfrm>
            <a:off x="3348000" y="2853000"/>
            <a:ext cx="2232000" cy="57564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accent1">
              <a:lumMod val="60000"/>
              <a:lumOff val="4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9"/>
          <p:cNvSpPr/>
          <p:nvPr/>
        </p:nvSpPr>
        <p:spPr>
          <a:xfrm>
            <a:off x="395640" y="1196640"/>
            <a:ext cx="8424720" cy="5445000"/>
          </a:xfrm>
          <a:prstGeom prst="rect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640" y="0"/>
            <a:ext cx="8280720" cy="10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пределение сроков хранения документ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5"/>
          <p:cNvSpPr/>
          <p:nvPr/>
        </p:nvSpPr>
        <p:spPr>
          <a:xfrm>
            <a:off x="1547640" y="1772640"/>
            <a:ext cx="5724720" cy="12236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93560" indent="-369720" algn="ctr">
              <a:lnSpc>
                <a:spcPct val="9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1e1c11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1e1c11"/>
                </a:solidFill>
                <a:latin typeface="Times New Roman"/>
              </a:rPr>
              <a:t>Срок хранения                         «До минования надобност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6"/>
          <p:cNvSpPr/>
          <p:nvPr/>
        </p:nvSpPr>
        <p:spPr>
          <a:xfrm>
            <a:off x="827640" y="3573000"/>
            <a:ext cx="7560360" cy="230400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1e1c11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1e1c11"/>
                </a:solidFill>
                <a:latin typeface="Times New Roman"/>
              </a:rPr>
              <a:t>- </a:t>
            </a:r>
            <a:r>
              <a:rPr b="0" lang="ru-RU" sz="2400" spc="-1" strike="noStrike">
                <a:solidFill>
                  <a:srgbClr val="1e1c11"/>
                </a:solidFill>
                <a:latin typeface="Times New Roman"/>
              </a:rPr>
              <a:t> организация сама определяет срок хранения указанных документов, однако этот срок не может быть менее одного года</a:t>
            </a:r>
            <a:r>
              <a:rPr b="0" lang="en-US" sz="2400" spc="-1" strike="noStrike">
                <a:solidFill>
                  <a:srgbClr val="1e1c11"/>
                </a:solidFill>
                <a:latin typeface="Times New Roman"/>
              </a:rPr>
              <a:t> (</a:t>
            </a:r>
            <a:r>
              <a:rPr b="0" lang="ru-RU" sz="2400" spc="-1" strike="noStrike">
                <a:solidFill>
                  <a:srgbClr val="1e1c11"/>
                </a:solidFill>
                <a:latin typeface="Times New Roman"/>
              </a:rPr>
              <a:t>проекты локальных нормативных актов организации, документы,</a:t>
            </a:r>
            <a:r>
              <a:rPr b="0" lang="en-US" sz="2400" spc="-1" strike="noStrike">
                <a:solidFill>
                  <a:srgbClr val="1e1c11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1e1c11"/>
                </a:solidFill>
                <a:latin typeface="Times New Roman"/>
              </a:rPr>
              <a:t>присланные для сведения, копии документов</a:t>
            </a:r>
            <a:r>
              <a:rPr b="0" lang="en-US" sz="2400" spc="-1" strike="noStrike">
                <a:solidFill>
                  <a:srgbClr val="1e1c11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трелка вниз 7"/>
          <p:cNvSpPr/>
          <p:nvPr/>
        </p:nvSpPr>
        <p:spPr>
          <a:xfrm>
            <a:off x="3420000" y="2997000"/>
            <a:ext cx="2232000" cy="57564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accent1">
              <a:lumMod val="60000"/>
              <a:lumOff val="4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1640" y="404640"/>
            <a:ext cx="8280720" cy="1007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конодательство Российской Федерации в сфере архивного дела и делопроизводств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3640" y="1628640"/>
            <a:ext cx="820872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5144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Font typeface="Wingdings" charset="2"/>
              <a:buChar char="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закон от 22 октября 2004 года № 125-ФЗ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архивном деле в Российской Федерации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5144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закон от 02 марта 2016 года № 43-ФЗ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 внесении изменений в Федеральный закон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«Об архивном деле в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йской Федерации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5144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закон от 18 июня 2017 года № 127-ФЗ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 внесении изменений в отдельные законодательны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ы Российской Федерац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8"/>
          <p:cNvSpPr/>
          <p:nvPr/>
        </p:nvSpPr>
        <p:spPr>
          <a:xfrm>
            <a:off x="467640" y="1196640"/>
            <a:ext cx="8352720" cy="5445000"/>
          </a:xfrm>
          <a:prstGeom prst="rect">
            <a:avLst/>
          </a:prstGeom>
          <a:solidFill>
            <a:schemeClr val="tx2">
              <a:lumMod val="60000"/>
              <a:lumOff val="4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640" y="0"/>
            <a:ext cx="8280720" cy="10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пределение сроков хранения документ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рямоугольник 5"/>
          <p:cNvSpPr/>
          <p:nvPr/>
        </p:nvSpPr>
        <p:spPr>
          <a:xfrm>
            <a:off x="1619640" y="1556640"/>
            <a:ext cx="5724720" cy="12236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93560" indent="-369720" algn="ctr">
              <a:lnSpc>
                <a:spcPct val="9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1e1c11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Срок хран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-369720" algn="ctr">
              <a:lnSpc>
                <a:spcPct val="9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«До замены новым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6"/>
          <p:cNvSpPr/>
          <p:nvPr/>
        </p:nvSpPr>
        <p:spPr>
          <a:xfrm>
            <a:off x="827640" y="3573000"/>
            <a:ext cx="7560360" cy="230400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1e1c11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1e1c11"/>
                </a:solidFill>
                <a:latin typeface="Times New Roman"/>
              </a:rPr>
              <a:t>Применяется к копиям нормативных документов, которые присылаются в организацию для использования в работе, и означает, что данные документы хранятся до их отмены и замены нов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Стрелка вниз 7"/>
          <p:cNvSpPr/>
          <p:nvPr/>
        </p:nvSpPr>
        <p:spPr>
          <a:xfrm>
            <a:off x="3492000" y="2781000"/>
            <a:ext cx="2232000" cy="71964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accent1">
              <a:lumMod val="60000"/>
              <a:lumOff val="4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10"/>
          <p:cNvSpPr/>
          <p:nvPr/>
        </p:nvSpPr>
        <p:spPr>
          <a:xfrm>
            <a:off x="323640" y="1268640"/>
            <a:ext cx="8568720" cy="5373000"/>
          </a:xfrm>
          <a:prstGeom prst="rect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640" y="0"/>
            <a:ext cx="8280720" cy="10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пределение сроков хранения документ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Прямоугольник 5"/>
          <p:cNvSpPr/>
          <p:nvPr/>
        </p:nvSpPr>
        <p:spPr>
          <a:xfrm>
            <a:off x="1691640" y="1412640"/>
            <a:ext cx="5724720" cy="12236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93560" indent="-369720" algn="ctr">
              <a:lnSpc>
                <a:spcPct val="9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1e1c11"/>
                </a:solidFill>
                <a:latin typeface="Times New Roman"/>
              </a:rPr>
              <a:t>Срок хран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-369720" algn="ctr">
              <a:lnSpc>
                <a:spcPct val="9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1e1c11"/>
                </a:solidFill>
                <a:latin typeface="Times New Roman"/>
              </a:rPr>
              <a:t>50/75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6"/>
          <p:cNvSpPr/>
          <p:nvPr/>
        </p:nvSpPr>
        <p:spPr>
          <a:xfrm>
            <a:off x="611640" y="3213000"/>
            <a:ext cx="7992360" cy="187200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93560" indent="-369720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1e1c11"/>
                </a:solidFill>
                <a:latin typeface="Times New Roman"/>
              </a:rPr>
              <a:t>срок хранения документов по личному составу, законченных делопроизводством </a:t>
            </a:r>
            <a:r>
              <a:rPr b="1" lang="ru-RU" sz="2000" spc="-1" strike="noStrike">
                <a:solidFill>
                  <a:srgbClr val="1e1c11"/>
                </a:solidFill>
                <a:latin typeface="Times New Roman"/>
              </a:rPr>
              <a:t>до 1 января 2003 года, составляет 75 лет</a:t>
            </a:r>
            <a:r>
              <a:rPr b="0" lang="ru-RU" sz="2000" spc="-1" strike="noStrike">
                <a:solidFill>
                  <a:srgbClr val="1e1c11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3560" indent="-369720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1e1c11"/>
                </a:solidFill>
                <a:latin typeface="Times New Roman"/>
              </a:rPr>
              <a:t>срок хранения документов по личному составу, законченных делопроизводством </a:t>
            </a:r>
            <a:r>
              <a:rPr b="1" lang="ru-RU" sz="2000" spc="-1" strike="noStrike">
                <a:solidFill>
                  <a:srgbClr val="1e1c11"/>
                </a:solidFill>
                <a:latin typeface="Times New Roman"/>
              </a:rPr>
              <a:t>после 1 января 2003 года, составляет 50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низ 7"/>
          <p:cNvSpPr/>
          <p:nvPr/>
        </p:nvSpPr>
        <p:spPr>
          <a:xfrm>
            <a:off x="3492000" y="2637000"/>
            <a:ext cx="2232000" cy="57564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accent1">
              <a:lumMod val="60000"/>
              <a:lumOff val="4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1" name="Прямоугольник 8"/>
          <p:cNvSpPr/>
          <p:nvPr/>
        </p:nvSpPr>
        <p:spPr>
          <a:xfrm>
            <a:off x="611640" y="5229360"/>
            <a:ext cx="8136720" cy="12956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93560" indent="-369720">
              <a:lnSpc>
                <a:spcPct val="100000"/>
              </a:lnSpc>
              <a:buClr>
                <a:srgbClr val="ffffff"/>
              </a:buClr>
              <a:buFont typeface="Libre Baskerville"/>
              <a:buChar char="▣"/>
            </a:pPr>
            <a:r>
              <a:rPr b="0" lang="ru-RU" sz="2000" spc="-1" strike="noStrike">
                <a:solidFill>
                  <a:srgbClr val="1e1c11"/>
                </a:solidFill>
                <a:latin typeface="Times New Roman"/>
              </a:rPr>
              <a:t>по истечении данных сроков хранения документы по личному составу, образовавшиеся в процессе деятельности источников комплектования государственных и муниципальных архивов, </a:t>
            </a:r>
            <a:r>
              <a:rPr b="1" lang="ru-RU" sz="2000" spc="-1" strike="noStrike">
                <a:solidFill>
                  <a:srgbClr val="1e1c11"/>
                </a:solidFill>
                <a:latin typeface="Times New Roman"/>
              </a:rPr>
              <a:t>подлежат экспертизе цен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14"/>
          <p:cNvSpPr/>
          <p:nvPr/>
        </p:nvSpPr>
        <p:spPr>
          <a:xfrm>
            <a:off x="323640" y="1196640"/>
            <a:ext cx="8568720" cy="5445000"/>
          </a:xfrm>
          <a:prstGeom prst="rect">
            <a:avLst/>
          </a:prstGeom>
          <a:solidFill>
            <a:schemeClr val="tx2">
              <a:lumMod val="60000"/>
              <a:lumOff val="4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640" y="0"/>
            <a:ext cx="8280720" cy="10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пределение сроков хранения документ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Прямоугольник 9"/>
          <p:cNvSpPr/>
          <p:nvPr/>
        </p:nvSpPr>
        <p:spPr>
          <a:xfrm>
            <a:off x="395640" y="1917000"/>
            <a:ext cx="2952000" cy="180000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93560" indent="-369720" algn="ctr">
              <a:lnSpc>
                <a:spcPct val="9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1e1c11"/>
                </a:solidFill>
                <a:latin typeface="Times New Roman"/>
              </a:rPr>
              <a:t>Отметка «ЭП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10"/>
          <p:cNvSpPr/>
          <p:nvPr/>
        </p:nvSpPr>
        <p:spPr>
          <a:xfrm>
            <a:off x="4644000" y="1772640"/>
            <a:ext cx="3888000" cy="338400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93560" indent="-369720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1e1c11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1e1c11"/>
                </a:solidFill>
                <a:latin typeface="Times New Roman"/>
              </a:rPr>
              <a:t>к срокам хранения отдельных видов документов, означает, что указанные документы или часть указанных документов могут быть отобраны на постоянное хранение по результатам экспертизы их цен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Стрелка вправо 11"/>
          <p:cNvSpPr/>
          <p:nvPr/>
        </p:nvSpPr>
        <p:spPr>
          <a:xfrm>
            <a:off x="3348000" y="2205000"/>
            <a:ext cx="1295640" cy="134820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accent1">
              <a:lumMod val="60000"/>
              <a:lumOff val="4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7" name="Прямоугольник 12"/>
          <p:cNvSpPr/>
          <p:nvPr/>
        </p:nvSpPr>
        <p:spPr>
          <a:xfrm>
            <a:off x="611640" y="4941000"/>
            <a:ext cx="5760360" cy="14396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93560" indent="-369720" algn="ctr">
              <a:lnSpc>
                <a:spcPct val="90000"/>
              </a:lnSpc>
              <a:buClr>
                <a:srgbClr val="ffffff"/>
              </a:buClr>
              <a:buFont typeface="Libre Baskerville"/>
              <a:buChar char="▣"/>
            </a:pPr>
            <a:r>
              <a:rPr b="1" lang="ru-RU" sz="2800" spc="-1" strike="noStrike">
                <a:solidFill>
                  <a:srgbClr val="1e1c11"/>
                </a:solidFill>
                <a:latin typeface="Times New Roman"/>
              </a:rPr>
              <a:t>Снижение сроков хранения, установленных Перечнем, запрещается</a:t>
            </a:r>
            <a:r>
              <a:rPr b="1" lang="en-US" sz="2800" spc="-1" strike="noStrike">
                <a:solidFill>
                  <a:srgbClr val="1e1c11"/>
                </a:solidFill>
                <a:latin typeface="Times New Roman"/>
              </a:rPr>
              <a:t>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640" y="0"/>
            <a:ext cx="8280720" cy="10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пределение сроков хранения документ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51640" y="1124640"/>
            <a:ext cx="8496720" cy="5544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Autofit/>
          </a:bodyPr>
          <a:p>
            <a:pPr marL="45720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-369720">
              <a:lnSpc>
                <a:spcPct val="90000"/>
              </a:lnSpc>
              <a:buClr>
                <a:srgbClr val="ffffff"/>
              </a:buClr>
              <a:buFont typeface="Libre Baskerville"/>
              <a:buChar char="▣"/>
              <a:tabLst>
                <a:tab algn="l" pos="0"/>
              </a:tabLst>
            </a:pPr>
            <a:r>
              <a:rPr b="0" lang="ru-RU" sz="28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Организации вправе продлевать сроки временного хранения документов при проведении экспертизы ценности документ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-369720">
              <a:lnSpc>
                <a:spcPct val="90000"/>
              </a:lnSpc>
              <a:buClr>
                <a:srgbClr val="ffffff"/>
              </a:buClr>
              <a:buFont typeface="Libre Baskerville"/>
              <a:buChar char="▣"/>
              <a:tabLst>
                <a:tab algn="l" pos="0"/>
              </a:tabLst>
            </a:pPr>
            <a:r>
              <a:rPr b="0" lang="ru-RU" sz="28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Повышение установленных Перечнем сроков хранения допускается в тех случаях, когда это обусловлено особенностями работы конкретной организации и ее практическими потребност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12"/>
          <p:cNvSpPr/>
          <p:nvPr/>
        </p:nvSpPr>
        <p:spPr>
          <a:xfrm>
            <a:off x="251640" y="1196640"/>
            <a:ext cx="8640720" cy="5373000"/>
          </a:xfrm>
          <a:prstGeom prst="rect">
            <a:avLst/>
          </a:prstGeom>
          <a:solidFill>
            <a:schemeClr val="tx2">
              <a:lumMod val="60000"/>
              <a:lumOff val="4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5640" y="0"/>
            <a:ext cx="8280720" cy="10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рядок применения Перечн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Прямоугольник 4"/>
          <p:cNvSpPr/>
          <p:nvPr/>
        </p:nvSpPr>
        <p:spPr>
          <a:xfrm>
            <a:off x="323640" y="2061000"/>
            <a:ext cx="4032000" cy="16340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1e1c11"/>
                </a:solidFill>
                <a:latin typeface="Times New Roman"/>
              </a:rPr>
              <a:t>федеральные органы государственной власти, иные государственные органы Российской Федерации, органы местного самоу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5"/>
          <p:cNvSpPr/>
          <p:nvPr/>
        </p:nvSpPr>
        <p:spPr>
          <a:xfrm>
            <a:off x="179640" y="4509000"/>
            <a:ext cx="4392000" cy="208800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 перечней документов, образующихся в процессе их деятельности, а также в процессе деятельности подведомственных им организаций, с указанием сроков их х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овых и примерных номенклатур д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6"/>
          <p:cNvSpPr/>
          <p:nvPr/>
        </p:nvSpPr>
        <p:spPr>
          <a:xfrm>
            <a:off x="4860000" y="2133000"/>
            <a:ext cx="3816000" cy="15836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7"/>
          <p:cNvSpPr/>
          <p:nvPr/>
        </p:nvSpPr>
        <p:spPr>
          <a:xfrm>
            <a:off x="5004000" y="4509000"/>
            <a:ext cx="3744000" cy="14396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индивидуальных номенклатур д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трелка вниз 8"/>
          <p:cNvSpPr/>
          <p:nvPr/>
        </p:nvSpPr>
        <p:spPr>
          <a:xfrm>
            <a:off x="5940000" y="3717000"/>
            <a:ext cx="1656000" cy="79164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accent1">
              <a:lumMod val="60000"/>
              <a:lumOff val="4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7" name="Стрелка вниз 9"/>
          <p:cNvSpPr/>
          <p:nvPr/>
        </p:nvSpPr>
        <p:spPr>
          <a:xfrm>
            <a:off x="3636000" y="1268640"/>
            <a:ext cx="1872000" cy="863640"/>
          </a:xfrm>
          <a:prstGeom prst="downArrow">
            <a:avLst>
              <a:gd name="adj1" fmla="val 50000"/>
              <a:gd name="adj2" fmla="val 41937"/>
            </a:avLst>
          </a:prstGeom>
          <a:solidFill>
            <a:schemeClr val="accent1">
              <a:lumMod val="60000"/>
              <a:lumOff val="4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8" name="Стрелка вниз 10"/>
          <p:cNvSpPr/>
          <p:nvPr/>
        </p:nvSpPr>
        <p:spPr>
          <a:xfrm>
            <a:off x="1331640" y="3717000"/>
            <a:ext cx="1656000" cy="71964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accent1">
              <a:lumMod val="60000"/>
              <a:lumOff val="4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16"/>
          <p:cNvSpPr/>
          <p:nvPr/>
        </p:nvSpPr>
        <p:spPr>
          <a:xfrm>
            <a:off x="251640" y="1268640"/>
            <a:ext cx="8640720" cy="5373000"/>
          </a:xfrm>
          <a:prstGeom prst="rect">
            <a:avLst/>
          </a:prstGeom>
          <a:solidFill>
            <a:schemeClr val="tx2">
              <a:lumMod val="60000"/>
              <a:lumOff val="4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640" y="0"/>
            <a:ext cx="8280720" cy="10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рядок применения Перечн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Прямоугольник 3"/>
          <p:cNvSpPr/>
          <p:nvPr/>
        </p:nvSpPr>
        <p:spPr>
          <a:xfrm>
            <a:off x="323640" y="1700640"/>
            <a:ext cx="3888000" cy="12020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0000"/>
              </a:lnSpc>
            </a:pPr>
            <a:r>
              <a:rPr b="0" lang="ru-RU" sz="2400" spc="-1" strike="noStrike">
                <a:solidFill>
                  <a:srgbClr val="1e1c11"/>
                </a:solidFill>
                <a:latin typeface="Times New Roman"/>
              </a:rPr>
              <a:t>При разработке ведомственных перечней документ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4"/>
          <p:cNvSpPr/>
          <p:nvPr/>
        </p:nvSpPr>
        <p:spPr>
          <a:xfrm>
            <a:off x="4716000" y="1700640"/>
            <a:ext cx="4176000" cy="11516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При подготовке номенклатур дел использу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5"/>
          <p:cNvSpPr/>
          <p:nvPr/>
        </p:nvSpPr>
        <p:spPr>
          <a:xfrm>
            <a:off x="251640" y="3573000"/>
            <a:ext cx="4392000" cy="11516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0000"/>
              </a:lnSpc>
            </a:pPr>
            <a:r>
              <a:rPr b="0" lang="ru-RU" sz="2000" spc="-1" strike="noStrike">
                <a:solidFill>
                  <a:srgbClr val="1e1c11"/>
                </a:solidFill>
                <a:latin typeface="Times New Roman"/>
              </a:rPr>
              <a:t>структура Переч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ru-RU" sz="2000" spc="-1" strike="noStrike">
                <a:solidFill>
                  <a:srgbClr val="1e1c11"/>
                </a:solidFill>
                <a:latin typeface="Times New Roman"/>
              </a:rPr>
              <a:t>видовой состав доку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ru-RU" sz="2000" spc="-1" strike="noStrike">
                <a:solidFill>
                  <a:srgbClr val="1e1c11"/>
                </a:solidFill>
                <a:latin typeface="Times New Roman"/>
              </a:rPr>
              <a:t>сроки хранения документ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6"/>
          <p:cNvSpPr/>
          <p:nvPr/>
        </p:nvSpPr>
        <p:spPr>
          <a:xfrm>
            <a:off x="4788000" y="3573000"/>
            <a:ext cx="3960000" cy="11516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0000"/>
              </a:lnSpc>
            </a:pPr>
            <a:r>
              <a:rPr b="0" lang="ru-RU" sz="2000" spc="-1" strike="noStrike">
                <a:solidFill>
                  <a:srgbClr val="1e1c11"/>
                </a:solidFill>
                <a:latin typeface="Times New Roman"/>
              </a:rPr>
              <a:t>видовой состав документ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ru-RU" sz="2000" spc="-1" strike="noStrike">
                <a:solidFill>
                  <a:srgbClr val="1e1c11"/>
                </a:solidFill>
                <a:latin typeface="Times New Roman"/>
              </a:rPr>
              <a:t>сроки хранения документ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7"/>
          <p:cNvSpPr/>
          <p:nvPr/>
        </p:nvSpPr>
        <p:spPr>
          <a:xfrm>
            <a:off x="251640" y="5013000"/>
            <a:ext cx="4392000" cy="165600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0000"/>
              </a:lnSpc>
            </a:pPr>
            <a:r>
              <a:rPr b="0" lang="ru-RU" sz="1800" spc="-1" strike="noStrike">
                <a:solidFill>
                  <a:srgbClr val="1e1c11"/>
                </a:solidFill>
                <a:latin typeface="Times New Roman"/>
              </a:rPr>
              <a:t>Сроки хранения документов в перечнях не могут быть  ниже тех сроков, которые установлены Перечнем для  документов того же ви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8"/>
          <p:cNvSpPr/>
          <p:nvPr/>
        </p:nvSpPr>
        <p:spPr>
          <a:xfrm>
            <a:off x="4751640" y="5013000"/>
            <a:ext cx="4140720" cy="165600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0000"/>
              </a:lnSpc>
            </a:pPr>
            <a:r>
              <a:rPr b="0" lang="ru-RU" sz="1600" spc="-1" strike="noStrike">
                <a:solidFill>
                  <a:srgbClr val="1e1c11"/>
                </a:solidFill>
                <a:latin typeface="Times New Roman"/>
              </a:rPr>
              <a:t>Наименования видов документов конкретизируют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ru-RU" sz="1600" spc="-1" strike="noStrike">
                <a:solidFill>
                  <a:srgbClr val="1e1c11"/>
                </a:solidFill>
                <a:latin typeface="Times New Roman"/>
              </a:rPr>
              <a:t>К сроку хранения дается ссылка на статью Перечня. При наличии других перечней, типовых или примерных номенклатур дел дается ссылка на соответствующий перечень (номенклатуру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Стрелка вниз 9"/>
          <p:cNvSpPr/>
          <p:nvPr/>
        </p:nvSpPr>
        <p:spPr>
          <a:xfrm>
            <a:off x="3636000" y="1052640"/>
            <a:ext cx="1656000" cy="71964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accent1">
              <a:lumMod val="60000"/>
              <a:lumOff val="4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8" name="Стрелка вниз 10"/>
          <p:cNvSpPr/>
          <p:nvPr/>
        </p:nvSpPr>
        <p:spPr>
          <a:xfrm>
            <a:off x="1691640" y="2925000"/>
            <a:ext cx="1367640" cy="64764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accent1">
              <a:lumMod val="60000"/>
              <a:lumOff val="4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9" name="Стрелка вниз 11"/>
          <p:cNvSpPr/>
          <p:nvPr/>
        </p:nvSpPr>
        <p:spPr>
          <a:xfrm>
            <a:off x="6012000" y="2853000"/>
            <a:ext cx="1367640" cy="71964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accent1">
              <a:lumMod val="60000"/>
              <a:lumOff val="4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0" name="Стрелка вниз 12"/>
          <p:cNvSpPr/>
          <p:nvPr/>
        </p:nvSpPr>
        <p:spPr>
          <a:xfrm>
            <a:off x="1979640" y="4725000"/>
            <a:ext cx="791640" cy="35964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accent1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1" name="Стрелка вниз 17"/>
          <p:cNvSpPr/>
          <p:nvPr/>
        </p:nvSpPr>
        <p:spPr>
          <a:xfrm>
            <a:off x="6300360" y="4653000"/>
            <a:ext cx="791640" cy="35964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accent1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640" y="0"/>
            <a:ext cx="8280720" cy="10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рядок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ставления номенклатуры дел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в государственном органе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358920" y="1196640"/>
            <a:ext cx="8461080" cy="280332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осударственные органы Российской Федерации и государственные органы субъектов Российской Федерации, имеющие подведомственные организации, вправе разрабатывать и утверждать по согласованию с уполномоченным федеральным органом исполнительной власти в сфере архивного дела и делопроизводства или с соответствующим уполномоченным органом исполнительной власти субъекта Российской Федерации в сфере архивного дела типовые и примерные номенклатуры дел для подведомственных организа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6"/>
          <p:cNvSpPr/>
          <p:nvPr/>
        </p:nvSpPr>
        <p:spPr>
          <a:xfrm>
            <a:off x="323640" y="4293000"/>
            <a:ext cx="3960000" cy="216000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Типовая номенклатура дел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станавливает состав дел, заводимых в организациях определенного типа, и является нормативным докумен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17"/>
          <p:cNvSpPr/>
          <p:nvPr/>
        </p:nvSpPr>
        <p:spPr>
          <a:xfrm>
            <a:off x="4716000" y="4293000"/>
            <a:ext cx="4032000" cy="216000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римерная номенклатура дел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станавливает примерный состав дел, заводимых в однотипных организациях, на которые она распространяется, и является рекомендательным докумен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Стрелка вниз 19"/>
          <p:cNvSpPr/>
          <p:nvPr/>
        </p:nvSpPr>
        <p:spPr>
          <a:xfrm>
            <a:off x="3564000" y="3861000"/>
            <a:ext cx="1800000" cy="71964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accent1">
              <a:lumMod val="60000"/>
              <a:lumOff val="4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640" y="0"/>
            <a:ext cx="8280720" cy="10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рядок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ставления номенклатуры дел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в государственном органе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15"/>
          <p:cNvSpPr/>
          <p:nvPr/>
        </p:nvSpPr>
        <p:spPr>
          <a:xfrm>
            <a:off x="395640" y="1268640"/>
            <a:ext cx="8461080" cy="5271120"/>
          </a:xfrm>
          <a:prstGeom prst="rect">
            <a:avLst/>
          </a:prstGeom>
          <a:solidFill>
            <a:schemeClr val="bg1">
              <a:lumMod val="9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оменклатура дел государственного орган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ставляется для обеспечения порядка формирования и учета дел в делопроизводств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крепляет классификацию (группировку) документов в дела (электронные дела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стематизацию и индексацию дел, сроки их хранен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вляется основным учетным документ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ключается в СЭД в качестве справочника, определяющего порядок систематизации электронных документов (электронных копий документов), включаемых в СЭ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95640" y="0"/>
            <a:ext cx="8280720" cy="10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рядок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ставления номенклатуры дел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в государственном органе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15"/>
          <p:cNvSpPr/>
          <p:nvPr/>
        </p:nvSpPr>
        <p:spPr>
          <a:xfrm>
            <a:off x="395640" y="1556640"/>
            <a:ext cx="5760360" cy="4782240"/>
          </a:xfrm>
          <a:prstGeom prst="rect">
            <a:avLst/>
          </a:prstGeom>
          <a:solidFill>
            <a:schemeClr val="bg1">
              <a:lumMod val="9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оменклатура дел является основой для составления описей дел структурных подразделений постоянного, временных (свыше 10 лет) сроков хранения, в том числе по личному состав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ктов о выделении к уничтожению документ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 подлежащих хранению, а также для учета дел временных (до 10 лет включительно) сроков хра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Рисунок 3" descr="9images.jpg"/>
          <p:cNvPicPr/>
          <p:nvPr/>
        </p:nvPicPr>
        <p:blipFill>
          <a:blip r:embed="rId1"/>
          <a:stretch/>
        </p:blipFill>
        <p:spPr>
          <a:xfrm>
            <a:off x="6300360" y="2565000"/>
            <a:ext cx="2637360" cy="24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640" y="0"/>
            <a:ext cx="8280720" cy="10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рядок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ставления номенклатуры дел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в государственном органе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15"/>
          <p:cNvSpPr/>
          <p:nvPr/>
        </p:nvSpPr>
        <p:spPr>
          <a:xfrm>
            <a:off x="323640" y="1268640"/>
            <a:ext cx="8533080" cy="5147640"/>
          </a:xfrm>
          <a:prstGeom prst="rect">
            <a:avLst/>
          </a:prstGeom>
          <a:solidFill>
            <a:schemeClr val="bg1">
              <a:lumMod val="9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составлении номенклатуры дел следует руководствоватьс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законодательством Российской Федерации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законодательством субъекта Российской Федерации, определяющим деятельность государственного органа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ложением о государственном органе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егламентом государственного органа, положениями о структурных подразделениях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штатным расписанием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лановой и отчетной документацией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оменклатурой дел за прошедшие годы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ормативными актами государственного органа, содержащими сведения об образующихся в деятельности документах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типовыми и примерными номенклатурами дел (при их наличии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еречнями типовых документов, ведомственными перечня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640" y="404640"/>
            <a:ext cx="8280720" cy="1007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конодательство Российской Федерации в сфере архивного дела и делопроизводств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5640" y="1628640"/>
            <a:ext cx="87480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514440">
              <a:lnSpc>
                <a:spcPct val="90000"/>
              </a:lnSpc>
              <a:spcBef>
                <a:spcPts val="479"/>
              </a:spcBef>
              <a:buClr>
                <a:srgbClr val="1e1c11"/>
              </a:buClr>
              <a:buFont typeface="Wingdings" charset="2"/>
              <a:buChar char=""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приказ Министерства культуры Российской Федерации от 31.03.2015 № 526 </a:t>
            </a:r>
            <a:r>
              <a:rPr b="0" lang="ru-RU" sz="24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«Об утверждении Правил организации хранения, комплектования, учета и использования документов Архивного фонда Российской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ции и других архивных документов в государственных органах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рганах местного самоуправления и организациях»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-514440">
              <a:lnSpc>
                <a:spcPct val="90000"/>
              </a:lnSpc>
              <a:spcBef>
                <a:spcPts val="479"/>
              </a:spcBef>
              <a:buClr>
                <a:srgbClr val="1e1c11"/>
              </a:buClr>
              <a:buFont typeface="Wingdings" charset="2"/>
              <a:buChar char=""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приказ Федерального архивного агентства от 29.05.2019</a:t>
            </a:r>
            <a:r>
              <a:rPr b="1" i="1" lang="en-US" sz="24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№ 71 </a:t>
            </a:r>
            <a:r>
              <a:rPr b="0" lang="ru-RU" sz="24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«Об утверждении правил делопроизводства в государственных органах, органах местного самоуправления»</a:t>
            </a:r>
            <a:br>
              <a:rPr sz="2400"/>
            </a:br>
            <a:r>
              <a:rPr b="0" lang="ru-RU" sz="2400" spc="-1" strike="noStrike">
                <a:solidFill>
                  <a:srgbClr val="1e1c1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640" y="0"/>
            <a:ext cx="8280720" cy="10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рядок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ставления номенклатуры дел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в государственном органе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15"/>
          <p:cNvSpPr/>
          <p:nvPr/>
        </p:nvSpPr>
        <p:spPr>
          <a:xfrm>
            <a:off x="251640" y="1052640"/>
            <a:ext cx="8496720" cy="4113000"/>
          </a:xfrm>
          <a:prstGeom prst="rect">
            <a:avLst/>
          </a:prstGeom>
          <a:solidFill>
            <a:schemeClr val="bg1">
              <a:lumMod val="9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менклатура дел государственного органа составляется на основе изучения состава и содержания документов, образующихся в его деятельности, включая документы, поступившие из других государственных органов, из органов местного самоуправления, организаций, гражд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менклатура дел государственного органа, (сводная) составляется Службой делопроизводства на основании номенклатур дел структурных подразделений (направлений деятельности) по форма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тановленным Правилами 2015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Рисунок 6" descr=""/>
          <p:cNvPicPr/>
          <p:nvPr/>
        </p:nvPicPr>
        <p:blipFill>
          <a:blip r:embed="rId1"/>
          <a:srcRect l="7920" t="7025" r="4296" b="0"/>
          <a:stretch/>
        </p:blipFill>
        <p:spPr>
          <a:xfrm>
            <a:off x="4932000" y="4509000"/>
            <a:ext cx="4032000" cy="21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Прямоугольник 16"/>
          <p:cNvSpPr/>
          <p:nvPr/>
        </p:nvSpPr>
        <p:spPr>
          <a:xfrm>
            <a:off x="179640" y="5733360"/>
            <a:ext cx="4536000" cy="9140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уководителем государственного орг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640" y="0"/>
            <a:ext cx="8280720" cy="90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рядок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ставления номенклатуры дел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в государственном органе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Прямоугольник 10"/>
          <p:cNvSpPr/>
          <p:nvPr/>
        </p:nvSpPr>
        <p:spPr>
          <a:xfrm>
            <a:off x="251640" y="3645000"/>
            <a:ext cx="3960000" cy="12236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ЦЭК (ЭК) государственного орг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11"/>
          <p:cNvSpPr/>
          <p:nvPr/>
        </p:nvSpPr>
        <p:spPr>
          <a:xfrm>
            <a:off x="4860000" y="3573000"/>
            <a:ext cx="4032000" cy="244800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дин раз в 5 л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экспертно-проверочной комиссией (далее – ЭПК) уполномоченного органа исполнительной власти субъекта Российской Федерации в сфере архивного д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13"/>
          <p:cNvSpPr/>
          <p:nvPr/>
        </p:nvSpPr>
        <p:spPr>
          <a:xfrm>
            <a:off x="1331640" y="1052640"/>
            <a:ext cx="6552360" cy="7196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менклатура дел государственного орг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Стрелка вниз 20"/>
          <p:cNvSpPr/>
          <p:nvPr/>
        </p:nvSpPr>
        <p:spPr>
          <a:xfrm>
            <a:off x="2771640" y="2781000"/>
            <a:ext cx="3672000" cy="935640"/>
          </a:xfrm>
          <a:prstGeom prst="downArrow">
            <a:avLst>
              <a:gd name="adj1" fmla="val 70560"/>
              <a:gd name="adj2" fmla="val 38681"/>
            </a:avLst>
          </a:prstGeom>
          <a:solidFill>
            <a:schemeClr val="accent1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lt1"/>
                </a:solidFill>
                <a:latin typeface="Times New Roman"/>
              </a:rPr>
              <a:t>согласовыв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7"/>
          <p:cNvSpPr/>
          <p:nvPr/>
        </p:nvSpPr>
        <p:spPr>
          <a:xfrm>
            <a:off x="251640" y="1845000"/>
            <a:ext cx="8208720" cy="9356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ект номенклатуры подписывается руководителем Службы делопроизводства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изируется руководителем архива (лицом, ответственным за архи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Стрелка вниз 22"/>
          <p:cNvSpPr/>
          <p:nvPr/>
        </p:nvSpPr>
        <p:spPr>
          <a:xfrm>
            <a:off x="467640" y="4797000"/>
            <a:ext cx="3672000" cy="935640"/>
          </a:xfrm>
          <a:prstGeom prst="downArrow">
            <a:avLst>
              <a:gd name="adj1" fmla="val 70560"/>
              <a:gd name="adj2" fmla="val 38681"/>
            </a:avLst>
          </a:prstGeom>
          <a:solidFill>
            <a:schemeClr val="accent1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lt1"/>
                </a:solidFill>
                <a:latin typeface="Times New Roman"/>
              </a:rPr>
              <a:t>утвержд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Стрелка вправо 23"/>
          <p:cNvSpPr/>
          <p:nvPr/>
        </p:nvSpPr>
        <p:spPr>
          <a:xfrm>
            <a:off x="4212000" y="4149000"/>
            <a:ext cx="64764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640" y="0"/>
            <a:ext cx="8280720" cy="10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рядок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ставления номенклатуры дел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в государственном органе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15"/>
          <p:cNvSpPr/>
          <p:nvPr/>
        </p:nvSpPr>
        <p:spPr>
          <a:xfrm>
            <a:off x="251640" y="4293000"/>
            <a:ext cx="8461080" cy="2558520"/>
          </a:xfrm>
          <a:prstGeom prst="rect">
            <a:avLst/>
          </a:prstGeom>
          <a:solidFill>
            <a:schemeClr val="bg1">
              <a:lumMod val="9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случае изменения функций и структуры государственного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гана номенклатура дел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длежит пересоставлению,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гласованию с ЭП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уполномоченного орга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нительной власти субъекта Российской Федераци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в сфере архивного дела 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тверждается зан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251640" y="1412640"/>
            <a:ext cx="8533080" cy="2558520"/>
          </a:xfrm>
          <a:prstGeom prst="rect">
            <a:avLst/>
          </a:prstGeom>
          <a:solidFill>
            <a:schemeClr val="bg1">
              <a:lumMod val="9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конце каждого года номенклатура дел государственного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гана уточняется и утверждается руководителем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сударственного орг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твержденная номенклатура дел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водится в дейст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 1-го января следующего календарного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5640" y="0"/>
            <a:ext cx="8280720" cy="10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рядок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ставления номенклатуры дел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в государственном органе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3"/>
          <p:cNvSpPr/>
          <p:nvPr/>
        </p:nvSpPr>
        <p:spPr>
          <a:xfrm>
            <a:off x="323640" y="1484640"/>
            <a:ext cx="8533080" cy="4508280"/>
          </a:xfrm>
          <a:prstGeom prst="rect">
            <a:avLst/>
          </a:prstGeom>
          <a:solidFill>
            <a:schemeClr val="bg1">
              <a:lumMod val="9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новь созданное или реорганизованное структурное подразделение должно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месячный срок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работать номенклатуру дел и представить ее в Службу делопроизвод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оменклатура дел вновь созданного структурного подразделения согласовывается и утверждает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ле утверждения присоединяется к действующей номенклатуре дел государственного орга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640" y="404640"/>
            <a:ext cx="8280720" cy="1007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конодательство Российской Федерации в сфере архивного дела и делопроизводств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79640" y="1700640"/>
            <a:ext cx="87480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509040">
              <a:lnSpc>
                <a:spcPct val="80000"/>
              </a:lnSpc>
              <a:spcBef>
                <a:spcPts val="479"/>
              </a:spcBef>
              <a:buClr>
                <a:srgbClr val="1e1c11"/>
              </a:buClr>
              <a:buFont typeface="Wingdings" charset="2"/>
              <a:buChar char=""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приказ Министерства культуры Российской Федерации от 17.12.2019     № 1964</a:t>
            </a:r>
            <a:r>
              <a:rPr b="0" lang="ru-RU" sz="24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 «О признании утратившим силу приказ Министерства культуры Российской Федерации от 25.08.2010 № 558 «Об утверждении «Перечня типовых управленческих архивных документов, образующихся в процессе деятельности государственных органов, органов местного самоуправления и организаций, с указанием сроков хранения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509040">
              <a:lnSpc>
                <a:spcPct val="80000"/>
              </a:lnSpc>
              <a:spcBef>
                <a:spcPts val="479"/>
              </a:spcBef>
              <a:buClr>
                <a:srgbClr val="1e1c11"/>
              </a:buClr>
              <a:buFont typeface="Wingdings" charset="2"/>
              <a:buChar char=""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приказ Федерального архивного агентства от 20.12.2019 № 236 </a:t>
            </a:r>
            <a:r>
              <a:rPr b="0" lang="ru-RU" sz="24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«Об утверждении Перечня типовых управленческих архивных документов, образующихся в процессе деятельности государственных органов, органов местного самоуправления и организаций,  с указанием сроков их хранения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640" y="404640"/>
            <a:ext cx="8280720" cy="1007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конодательство Российской Федерации в сфере архивного дела и делопроизводств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79640" y="1700640"/>
            <a:ext cx="87480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514440">
              <a:lnSpc>
                <a:spcPct val="80000"/>
              </a:lnSpc>
              <a:spcBef>
                <a:spcPts val="479"/>
              </a:spcBef>
              <a:buClr>
                <a:srgbClr val="1e1c11"/>
              </a:buClr>
              <a:buFont typeface="Wingdings" charset="2"/>
              <a:buChar char=""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приказ Федерального архивного агентства от 20.12.20</a:t>
            </a:r>
            <a:r>
              <a:rPr b="1" i="1" lang="en-US" sz="24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1</a:t>
            </a:r>
            <a:r>
              <a:rPr b="1" i="1" lang="ru-RU" sz="24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9 № 237  </a:t>
            </a:r>
            <a:r>
              <a:rPr b="0" lang="ru-RU" sz="24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«Об утверждении Инструкции по применению Перечня типовых управленческих архивных документов, образующихся в процессе деятельности государственных органов, органов местного самоуправления и организаций, с указанием сроков их хранения»</a:t>
            </a:r>
            <a:r>
              <a:rPr b="0" lang="en-US" sz="24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514440">
              <a:lnSpc>
                <a:spcPct val="80000"/>
              </a:lnSpc>
              <a:spcBef>
                <a:spcPts val="479"/>
              </a:spcBef>
              <a:buClr>
                <a:srgbClr val="1e1c11"/>
              </a:buClr>
              <a:buFont typeface="Wingdings" charset="2"/>
              <a:buChar char=""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Разъяснения по внедрению Перечня типовых управленческих архивных документов</a:t>
            </a:r>
            <a:r>
              <a:rPr b="0" i="1" lang="ru-RU" sz="24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образующихся в процессе деятельности государственных органов, органов местного самоуправления и организаций с указанием сроков их хранения. Опубликованы на официальном сайте Росархива </a:t>
            </a:r>
            <a:r>
              <a:rPr b="1" i="1" lang="ru-RU" sz="24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(</a:t>
            </a:r>
            <a:r>
              <a:rPr b="1" i="1" lang="ru-RU" sz="2400" spc="-1" strike="noStrike" u="sng">
                <a:solidFill>
                  <a:srgbClr val="000019"/>
                </a:solidFill>
                <a:uFillTx/>
                <a:latin typeface="Times New Roman"/>
                <a:ea typeface="Times New Roman"/>
                <a:hlinkClick r:id="rId1"/>
              </a:rPr>
              <a:t>http://archives.ru/press/12-03-2020.shtml</a:t>
            </a:r>
            <a:r>
              <a:rPr b="1" i="1" lang="ru-RU" sz="24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640" y="404640"/>
            <a:ext cx="8280720" cy="1007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едеральный закон № 125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З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79640" y="1700640"/>
            <a:ext cx="87480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рхивные документы включаются в состав Архивного фонда Российской Федерации на основани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тизы ценности документ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5" descr="proverki.jpg"/>
          <p:cNvPicPr/>
          <p:nvPr/>
        </p:nvPicPr>
        <p:blipFill>
          <a:blip r:embed="rId1"/>
          <a:stretch/>
        </p:blipFill>
        <p:spPr>
          <a:xfrm>
            <a:off x="179640" y="4365000"/>
            <a:ext cx="2808000" cy="200448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3"/>
          <p:cNvSpPr/>
          <p:nvPr/>
        </p:nvSpPr>
        <p:spPr>
          <a:xfrm>
            <a:off x="2771640" y="3213000"/>
            <a:ext cx="6048360" cy="295200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93560" indent="-369720">
              <a:lnSpc>
                <a:spcPct val="100000"/>
              </a:lnSpc>
              <a:tabLst>
                <a:tab algn="l" pos="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кспертиза ценности документо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зучение документов на основании критериев их ценности в целях определения сроков хранения документов и отбора их для включения  в состав Архивного фонда Российской Фед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640" y="404640"/>
            <a:ext cx="8280720" cy="1007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атья 6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едерального закона № 125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З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79640" y="1700640"/>
            <a:ext cx="87480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Уполномоченный федеральный орган исполнительной власти в сфере архивного дела и делопроизводства утверждает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ни типовых архивных документов с указанием сроков их хранен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кции по применению этих перечне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Решение вопросов о включении в состав Архивного фонда Российской Федерации конкретных документов осуществляется экспертно-проверочными комиссиями федеральных государственных архивов и уполномоченных органов исполнительной власти субъектов Российской Федерации в сфере архивного дела в пределах их компетен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640" y="404640"/>
            <a:ext cx="8280720" cy="1007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атья 6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едерального закона № 125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З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79640" y="1484640"/>
            <a:ext cx="8784720" cy="537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46800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800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Экспертиза ценности документов осуществляется уполномоченным органом исполнительной власти субъекта Российской Федерации в сфере архивного дела, государственным архивом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о с собственником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владельцем архивных докум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Экспертизе ценности документо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длежат все документы на носителях любого вид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аходящиеся в федеральной собственности, собственности субъекта Российской Федерации или муниципальной собствен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5"/>
          <p:cNvSpPr/>
          <p:nvPr/>
        </p:nvSpPr>
        <p:spPr>
          <a:xfrm>
            <a:off x="539640" y="5517360"/>
            <a:ext cx="8208720" cy="11516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 проведения в установленном поряд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кспертизы ценности доку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ничтожение документов запрещ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640" y="260640"/>
            <a:ext cx="8280720" cy="1007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атья 2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едерального закона № 125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З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79640" y="1340640"/>
            <a:ext cx="8784720" cy="532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34000"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</a:tabLst>
            </a:pPr>
            <a:r>
              <a:rPr b="1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и временного хранения документов Архивного фонда Российской Федерации до их передачи на постоянное хранение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включенных в установленном порядке в состав Архивного фонда РФ документов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федеральных органов государственной власти, иных государственных органов Российской Федерации - </a:t>
            </a:r>
            <a:r>
              <a:rPr b="1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 лет</a:t>
            </a: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органов государственной власти, иных государственных органов субъектов Российской Федерации и организаций субъектов Российской Федерации - </a:t>
            </a:r>
            <a:r>
              <a:rPr b="1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лет;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органов местного самоуправления и муниципальных организаций - </a:t>
            </a:r>
            <a:r>
              <a:rPr b="1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лет</a:t>
            </a: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для включенных в установленном порядке в состав Архивного фонда Российской Федерации отдельных видов архивных документов: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записей актов гражданского состояния - </a:t>
            </a:r>
            <a:r>
              <a:rPr b="1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лет</a:t>
            </a: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записей нотариальных действий, похозяйственных книг и касающихся приватизации жилищного фонда документов - </a:t>
            </a:r>
            <a:r>
              <a:rPr b="1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 лет</a:t>
            </a: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проектной документации по капитальному строительству - </a:t>
            </a:r>
            <a:r>
              <a:rPr b="1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лет</a:t>
            </a: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технологической и конструкторской документации - </a:t>
            </a:r>
            <a:r>
              <a:rPr b="1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лет</a:t>
            </a: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) патентов на изобретение, полезную модель, промышленный образец - </a:t>
            </a:r>
            <a:r>
              <a:rPr b="1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лет</a:t>
            </a: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) научной документации - </a:t>
            </a:r>
            <a:r>
              <a:rPr b="1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 лет</a:t>
            </a: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) кино- и фотодокументов - </a:t>
            </a:r>
            <a:r>
              <a:rPr b="1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лет</a:t>
            </a: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) видео- и фонодокументов - </a:t>
            </a:r>
            <a:r>
              <a:rPr b="1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года</a:t>
            </a: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2</TotalTime>
  <Application>LibreOffice/7.4.7.2$Linux_X86_64 LibreOffice_project/40$Build-2</Application>
  <AppVersion>15.0000</AppVersion>
  <Words>1974</Words>
  <Paragraphs>22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07:52:57Z</dcterms:created>
  <dc:creator>Acer</dc:creator>
  <dc:description/>
  <dc:language>en-US</dc:language>
  <cp:lastModifiedBy>Acer</cp:lastModifiedBy>
  <dcterms:modified xsi:type="dcterms:W3CDTF">2020-08-23T09:58:21Z</dcterms:modified>
  <cp:revision>181</cp:revision>
  <dc:subject/>
  <dc:title>Екатеринбург 201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33</vt:r8>
  </property>
</Properties>
</file>