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C338-F154-476D-A765-26BB69A3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43120" y="969840"/>
            <a:ext cx="740052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43120" y="3689280"/>
            <a:ext cx="740052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E81-E118-40DC-A009-F16221AD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43120" y="969840"/>
            <a:ext cx="361116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35360" y="969840"/>
            <a:ext cx="361116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43120" y="3689280"/>
            <a:ext cx="361116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35360" y="3689280"/>
            <a:ext cx="361116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B8F-5C54-41CB-90F0-3B98ED42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43120" y="969840"/>
            <a:ext cx="238284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45480" y="969840"/>
            <a:ext cx="238284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47840" y="969840"/>
            <a:ext cx="238284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43120" y="3689280"/>
            <a:ext cx="238284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245480" y="3689280"/>
            <a:ext cx="238284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47840" y="3689280"/>
            <a:ext cx="238284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302-329A-422B-BAC1-2952C537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43120" y="969840"/>
            <a:ext cx="7400520" cy="52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437F-915D-442B-A664-43649746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43120" y="969840"/>
            <a:ext cx="7400520" cy="52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20F0-56EB-4F8D-8AFE-D21A2EF3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43120" y="969840"/>
            <a:ext cx="3611160" cy="52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35360" y="969840"/>
            <a:ext cx="3611160" cy="52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BDF6-514A-45B0-9422-9662FBC9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B635-0F92-42E4-BF82-A8ABCB07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3120" y="0"/>
            <a:ext cx="7400520" cy="28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18E-F03C-4199-9DD0-345F77CF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43120" y="969840"/>
            <a:ext cx="361116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35360" y="969840"/>
            <a:ext cx="3611160" cy="52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43120" y="3689280"/>
            <a:ext cx="361116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C56-5F48-4CF2-862F-9252BA84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43120" y="969840"/>
            <a:ext cx="3611160" cy="52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35360" y="969840"/>
            <a:ext cx="361116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35360" y="3689280"/>
            <a:ext cx="361116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7B0E-4989-420B-A4BB-958777BB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43120" y="969840"/>
            <a:ext cx="361116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35360" y="969840"/>
            <a:ext cx="361116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43120" y="3689280"/>
            <a:ext cx="7400520" cy="24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3C9-0CB7-47F6-A23B-9C0E3743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Прямоугольник 8"/>
          <p:cNvSpPr/>
          <p:nvPr/>
        </p:nvSpPr>
        <p:spPr>
          <a:xfrm>
            <a:off x="1743120" y="622440"/>
            <a:ext cx="7400520" cy="6235200"/>
          </a:xfrm>
          <a:prstGeom prst="rect">
            <a:avLst/>
          </a:prstGeom>
          <a:solidFill>
            <a:schemeClr val="bg1">
              <a:lumMod val="50000"/>
              <a:alpha val="15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Образец заголовка</a:t>
            </a:r>
            <a:endParaRPr b="0" lang="ru-RU" sz="32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743120" y="969840"/>
            <a:ext cx="7400520" cy="52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Образец текста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Второй уровень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Третий уровень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Четвертый уровень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Пятый уровень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9d8c8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9d8c8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9d8c8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5047DC-77C8-4435-83F6-0CF25615E6C9}" type="slidenum">
              <a:rPr b="0" lang="ru-RU" sz="1200" spc="-1" strike="noStrike">
                <a:solidFill>
                  <a:srgbClr val="9d8c8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7"/>
          <p:cNvSpPr/>
          <p:nvPr/>
        </p:nvSpPr>
        <p:spPr>
          <a:xfrm>
            <a:off x="5004000" y="28530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44" name="Прямоугольник 8"/>
          <p:cNvSpPr/>
          <p:nvPr/>
        </p:nvSpPr>
        <p:spPr>
          <a:xfrm>
            <a:off x="1835640" y="404640"/>
            <a:ext cx="7308000" cy="630648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8282c"/>
                </a:solidFill>
                <a:latin typeface="Arial"/>
              </a:rPr>
              <a:t>Порядок пере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8282c"/>
                </a:solidFill>
                <a:latin typeface="Arial"/>
              </a:rPr>
              <a:t>архивных документов государственных орган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68282c"/>
                </a:solidFill>
                <a:latin typeface="Arial"/>
              </a:rPr>
              <a:t>при их реорганизации и ликвид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611515"/>
                </a:solidFill>
                <a:latin typeface="Arial"/>
              </a:rPr>
              <a:t>Екатерин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611515"/>
                </a:solidFill>
                <a:latin typeface="Arial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112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АЧА ДОКУМЕНТОВ  ГОСОРГАНОВ НА ХРАН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ОСУДАРСТВЕННЫЙ (МУНИЦИПАЛЬНЫЙ) АРХИВ</a:t>
            </a: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1763640" y="1268640"/>
            <a:ext cx="3672000" cy="493452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Передача документов оформляется </a:t>
            </a: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актом приема-передачи документов на хранение, </a:t>
            </a: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составляемым в двух экземпляр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Один экземпляр остается в государственном (муниципальном) архиве, другой - в передающем госорга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Вместе с документами передается три экземпляра описи дел, документов, в том числе один в электронном ви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5"/>
          <p:cNvSpPr/>
          <p:nvPr/>
        </p:nvSpPr>
        <p:spPr>
          <a:xfrm>
            <a:off x="152280" y="494964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6" descr="97.gif"/>
          <p:cNvPicPr/>
          <p:nvPr/>
        </p:nvPicPr>
        <p:blipFill>
          <a:blip r:embed="rId1"/>
          <a:stretch/>
        </p:blipFill>
        <p:spPr>
          <a:xfrm>
            <a:off x="5436000" y="1052640"/>
            <a:ext cx="3707640" cy="5445000"/>
          </a:xfrm>
          <a:prstGeom prst="rect">
            <a:avLst/>
          </a:prstGeom>
          <a:ln w="0">
            <a:solidFill>
              <a:srgbClr val="611515">
                <a:lumMod val="60000"/>
                <a:lumOff val="40000"/>
              </a:srgbClr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112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АЧА ДОКУМЕНТОВ  ГОСОРГАНОВ НА ХРАН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ОСУДАРСТВЕННЫЙ (МУНИЦИПАЛЬНЫЙ) АРХИВ</a:t>
            </a: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73" name="Овал 5"/>
          <p:cNvSpPr/>
          <p:nvPr/>
        </p:nvSpPr>
        <p:spPr>
          <a:xfrm>
            <a:off x="152280" y="494964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2483640" y="1628640"/>
            <a:ext cx="6480360" cy="423540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300a0a"/>
                </a:solidFill>
                <a:latin typeface="Arial"/>
              </a:rPr>
              <a:t>Если при передаче обнаружено расхождение между итоговой записью описи дел, документов и фактическим наличием передаваемых дел, в описи дел, документов оформляется новая итоговая запись, в которой указываются фактическое наличие дел и номера отсутствующих д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300a0a"/>
                </a:solidFill>
                <a:latin typeface="Arial"/>
              </a:rPr>
              <a:t>Номера отсутствующих дел фиксируются в акте приема-передачи дел на постоянное хранение, причины отсутствия дел - в прилагаемой к акту приема-передачи справке, подготовленной госорга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112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ДАЧА ДОКУМЕНТОВ  ГОСОРГАНОВ НА ХРАН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ГОСУДАРСТВЕННЫЙ (МУНИЦИПАЛЬНЫЙ) АРХИВ</a:t>
            </a:r>
            <a:endParaRPr b="0" lang="ru-RU" sz="20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763640" y="1412640"/>
            <a:ext cx="3528000" cy="417348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Архив организации принимает меры по розыску д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На отсутствующие документы и дела, меры по розыску которых не дали результатов, соста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акт об утрате документов</a:t>
            </a: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Утраченные подлинники документов могут быть заменены их коп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mduharina\Documents\Семинары 2018\Семинар в Управлении\картинки\3.jpg"/>
          <p:cNvPicPr/>
          <p:nvPr/>
        </p:nvPicPr>
        <p:blipFill>
          <a:blip r:embed="rId1"/>
          <a:stretch/>
        </p:blipFill>
        <p:spPr>
          <a:xfrm>
            <a:off x="5183280" y="1196640"/>
            <a:ext cx="3960360" cy="5439960"/>
          </a:xfrm>
          <a:prstGeom prst="rect">
            <a:avLst/>
          </a:prstGeom>
          <a:ln>
            <a:solidFill>
              <a:srgbClr val="ea157a"/>
            </a:solidFill>
          </a:ln>
        </p:spPr>
      </p:pic>
      <p:sp>
        <p:nvSpPr>
          <p:cNvPr id="78" name="Овал 5"/>
          <p:cNvSpPr/>
          <p:nvPr/>
        </p:nvSpPr>
        <p:spPr>
          <a:xfrm>
            <a:off x="152280" y="494964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112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готовка к передаче дел госоргана в архив. Оформление дел</a:t>
            </a:r>
            <a:endParaRPr b="0" lang="ru-RU" sz="2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1835640" y="3213000"/>
            <a:ext cx="3744000" cy="33840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611515">
                <a:lumMod val="40000"/>
                <a:lumOff val="6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Полному оформлению подлежат дела постоянного и временных (свыше 10 лет) сроков хранения и по личному соста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5796000" y="3213000"/>
            <a:ext cx="3096000" cy="33840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611515">
                <a:lumMod val="40000"/>
                <a:lumOff val="6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Calibri"/>
              </a:rPr>
              <a:t>Частичное оформление дел временных (до 10 лет включительно) сроков хранения </a:t>
            </a:r>
            <a:r>
              <a:rPr b="1" lang="ru-RU" sz="1800" spc="-1" strike="noStrike">
                <a:solidFill>
                  <a:srgbClr val="300a0a"/>
                </a:solidFill>
                <a:latin typeface="Calibri"/>
              </a:rPr>
              <a:t>предусматрив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Calibri"/>
              </a:rPr>
              <a:t>дела допускается хранить в скоросшивател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300a0a"/>
                </a:solidFill>
                <a:latin typeface="Calibri"/>
              </a:rPr>
              <a:t>не проводить пересистематизацию документов в де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300a0a"/>
                </a:solidFill>
                <a:latin typeface="Calibri"/>
              </a:rPr>
              <a:t>листы дела не нумеров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300a0a"/>
                </a:solidFill>
                <a:latin typeface="Calibri"/>
              </a:rPr>
              <a:t>заверительные надписи не составля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7"/>
          <p:cNvSpPr/>
          <p:nvPr/>
        </p:nvSpPr>
        <p:spPr>
          <a:xfrm>
            <a:off x="6228360" y="2061000"/>
            <a:ext cx="2304000" cy="647640"/>
          </a:xfrm>
          <a:prstGeom prst="downArrow">
            <a:avLst>
              <a:gd name="adj1" fmla="val 50000"/>
              <a:gd name="adj2" fmla="val 53015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1763640" y="1196640"/>
            <a:ext cx="7380000" cy="14900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611515">
                <a:lumMod val="40000"/>
                <a:lumOff val="6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200" spc="-1" strike="noStrike">
                <a:solidFill>
                  <a:schemeClr val="lt1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300a0a"/>
                </a:solidFill>
                <a:latin typeface="Arial"/>
              </a:rPr>
              <a:t>В зависимости от сроков хранения проводит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200" spc="-1" strike="noStrike">
                <a:solidFill>
                  <a:srgbClr val="300a0a"/>
                </a:solidFill>
                <a:latin typeface="Arial"/>
              </a:rPr>
              <a:t>       </a:t>
            </a:r>
            <a:r>
              <a:rPr b="1" lang="ru-RU" sz="2200" spc="-1" strike="noStrike">
                <a:solidFill>
                  <a:srgbClr val="300a0a"/>
                </a:solidFill>
                <a:latin typeface="Arial"/>
              </a:rPr>
              <a:t>полное или частичное оформление д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низ 11"/>
          <p:cNvSpPr/>
          <p:nvPr/>
        </p:nvSpPr>
        <p:spPr>
          <a:xfrm>
            <a:off x="5796000" y="2421000"/>
            <a:ext cx="3096000" cy="791640"/>
          </a:xfrm>
          <a:prstGeom prst="downArrow">
            <a:avLst>
              <a:gd name="adj1" fmla="val 50000"/>
              <a:gd name="adj2" fmla="val 68945"/>
            </a:avLst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611515">
                <a:lumMod val="40000"/>
                <a:lumOff val="6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Стрелка вниз 9"/>
          <p:cNvSpPr/>
          <p:nvPr/>
        </p:nvSpPr>
        <p:spPr>
          <a:xfrm>
            <a:off x="2123640" y="2421000"/>
            <a:ext cx="3096000" cy="791640"/>
          </a:xfrm>
          <a:prstGeom prst="downArrow">
            <a:avLst>
              <a:gd name="adj1" fmla="val 50000"/>
              <a:gd name="adj2" fmla="val 68945"/>
            </a:avLst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611515">
                <a:lumMod val="40000"/>
                <a:lumOff val="6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Овал 12"/>
          <p:cNvSpPr/>
          <p:nvPr/>
        </p:nvSpPr>
        <p:spPr>
          <a:xfrm>
            <a:off x="0" y="494100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4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112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формление дел</a:t>
            </a:r>
            <a:endParaRPr b="0" lang="ru-RU" sz="2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88" name="Овал 8"/>
          <p:cNvSpPr/>
          <p:nvPr/>
        </p:nvSpPr>
        <p:spPr>
          <a:xfrm>
            <a:off x="0" y="494100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4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4"/>
          <p:cNvSpPr/>
          <p:nvPr/>
        </p:nvSpPr>
        <p:spPr>
          <a:xfrm>
            <a:off x="1691640" y="1268640"/>
            <a:ext cx="3600000" cy="194400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491010"/>
                </a:solidFill>
                <a:latin typeface="Calibri Light"/>
              </a:rPr>
              <a:t>Оформление дел на бумажной основе предусматри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6"/>
          <p:cNvSpPr/>
          <p:nvPr/>
        </p:nvSpPr>
        <p:spPr>
          <a:xfrm>
            <a:off x="5436000" y="1268640"/>
            <a:ext cx="3707640" cy="1944000"/>
          </a:xfrm>
          <a:prstGeom prst="roundRect">
            <a:avLst>
              <a:gd name="adj" fmla="val 16667"/>
            </a:avLst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491010"/>
                </a:solidFill>
                <a:latin typeface="Calibri Light"/>
              </a:rPr>
              <a:t>Оформление электронных дел предусматри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4"/>
          <p:cNvSpPr/>
          <p:nvPr/>
        </p:nvSpPr>
        <p:spPr>
          <a:xfrm>
            <a:off x="5488200" y="4077000"/>
            <a:ext cx="3655440" cy="252000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solidFill>
              <a:srgbClr val="611515">
                <a:lumMod val="60000"/>
                <a:lumOff val="4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1440" lIns="57240" rIns="57240" tIns="57240" bIns="57240" anchor="ctr">
            <a:noAutofit/>
          </a:bodyPr>
          <a:p>
            <a:pPr algn="ctr">
              <a:lnSpc>
                <a:spcPct val="90000"/>
              </a:lnSpc>
              <a:spcAft>
                <a:spcPts val="629"/>
              </a:spcAft>
            </a:pPr>
            <a:r>
              <a:rPr b="1" lang="ru-RU" sz="1800" spc="-1" strike="noStrike">
                <a:solidFill>
                  <a:srgbClr val="491010"/>
                </a:solidFill>
                <a:latin typeface="Calibri Light"/>
              </a:rPr>
              <a:t>конвертацию электронных документов в формат </a:t>
            </a:r>
            <a:r>
              <a:rPr b="1" lang="en-US" sz="1800" spc="-1" strike="noStrike">
                <a:solidFill>
                  <a:srgbClr val="491010"/>
                </a:solidFill>
                <a:latin typeface="Calibri Light"/>
              </a:rPr>
              <a:t>PDF/</a:t>
            </a:r>
            <a:r>
              <a:rPr b="1" lang="ru-RU" sz="1800" spc="-1" strike="noStrike">
                <a:solidFill>
                  <a:srgbClr val="491010"/>
                </a:solidFill>
                <a:latin typeface="Calibri Light"/>
              </a:rPr>
              <a:t>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629"/>
              </a:spcAft>
            </a:pPr>
            <a:r>
              <a:rPr b="1" lang="ru-RU" sz="1800" spc="-1" strike="noStrike">
                <a:solidFill>
                  <a:srgbClr val="491010"/>
                </a:solidFill>
                <a:latin typeface="Calibri Light"/>
              </a:rPr>
              <a:t>формирование электронных документов в контейнер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629"/>
              </a:spcAft>
            </a:pPr>
            <a:r>
              <a:rPr b="1" lang="ru-RU" sz="1800" spc="-1" strike="noStrike">
                <a:solidFill>
                  <a:srgbClr val="491010"/>
                </a:solidFill>
                <a:latin typeface="Calibri Light"/>
              </a:rPr>
              <a:t>формирование контейнеров в дела (единицы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низ 12"/>
          <p:cNvSpPr/>
          <p:nvPr/>
        </p:nvSpPr>
        <p:spPr>
          <a:xfrm>
            <a:off x="1907640" y="3213000"/>
            <a:ext cx="3096000" cy="791640"/>
          </a:xfrm>
          <a:prstGeom prst="downArrow">
            <a:avLst>
              <a:gd name="adj1" fmla="val 50000"/>
              <a:gd name="adj2" fmla="val 68945"/>
            </a:avLst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611515">
                <a:lumMod val="40000"/>
                <a:lumOff val="6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Стрелка вниз 13"/>
          <p:cNvSpPr/>
          <p:nvPr/>
        </p:nvSpPr>
        <p:spPr>
          <a:xfrm>
            <a:off x="5796000" y="3213000"/>
            <a:ext cx="3096000" cy="791640"/>
          </a:xfrm>
          <a:prstGeom prst="downArrow">
            <a:avLst>
              <a:gd name="adj1" fmla="val 50000"/>
              <a:gd name="adj2" fmla="val 68945"/>
            </a:avLst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611515">
                <a:lumMod val="40000"/>
                <a:lumOff val="6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Скругленный прямоугольник 4"/>
          <p:cNvSpPr/>
          <p:nvPr/>
        </p:nvSpPr>
        <p:spPr>
          <a:xfrm>
            <a:off x="1907640" y="4077000"/>
            <a:ext cx="3376440" cy="256464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solidFill>
              <a:srgbClr val="611515">
                <a:lumMod val="60000"/>
                <a:lumOff val="4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1440" lIns="57240" rIns="57240" tIns="57240" bIns="57240" anchor="ctr">
            <a:noAutofit/>
          </a:bodyPr>
          <a:p>
            <a:pPr algn="ctr">
              <a:lnSpc>
                <a:spcPct val="90000"/>
              </a:lnSpc>
              <a:spcAft>
                <a:spcPts val="629"/>
              </a:spcAft>
            </a:pPr>
            <a:r>
              <a:rPr b="1" lang="ru-RU" sz="1800" spc="-1" strike="noStrike">
                <a:solidFill>
                  <a:srgbClr val="491010"/>
                </a:solidFill>
                <a:latin typeface="Calibri Light"/>
              </a:rPr>
              <a:t>подшивку или переплет документов де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629"/>
              </a:spcAft>
            </a:pPr>
            <a:r>
              <a:rPr b="1" lang="ru-RU" sz="1800" spc="-1" strike="noStrike">
                <a:solidFill>
                  <a:srgbClr val="491010"/>
                </a:solidFill>
                <a:latin typeface="Calibri Light"/>
              </a:rPr>
              <a:t>нумерацию листов де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629"/>
              </a:spcAft>
            </a:pPr>
            <a:r>
              <a:rPr b="1" lang="ru-RU" sz="1800" spc="-1" strike="noStrike">
                <a:solidFill>
                  <a:srgbClr val="491010"/>
                </a:solidFill>
                <a:latin typeface="Calibri Light"/>
              </a:rPr>
              <a:t>составление листа-заверителя де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629"/>
              </a:spcAft>
            </a:pPr>
            <a:r>
              <a:rPr b="1" lang="ru-RU" sz="1800" spc="-1" strike="noStrike">
                <a:solidFill>
                  <a:srgbClr val="491010"/>
                </a:solidFill>
                <a:latin typeface="Calibri Light"/>
              </a:rPr>
              <a:t>составление внутренней описи документов д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шивка дела </a:t>
            </a:r>
            <a:endParaRPr b="0" lang="ru-RU" sz="2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79640" y="836640"/>
            <a:ext cx="4104000" cy="547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Документы, составляющие дело на бумажном носителе, подшиваются на четыре прокола (на три прокола - для малоформатных дел) в твердую обложку или переплетаются с учетом возможности свободного чтения всех документов, дат, виз и резолюций на них, металлические скрепления из документов удаляются.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В начале дела на бумажном носителе при необходимости подшиваются листы внутренней описи документов дела, в конце каждого дела - лист-заверитель дела.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6444360" y="2565000"/>
            <a:ext cx="2448000" cy="2009880"/>
          </a:xfrm>
          <a:prstGeom prst="rect">
            <a:avLst/>
          </a:prstGeom>
          <a:solidFill>
            <a:schemeClr val="tx1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Arial Narrow"/>
              </a:rPr>
              <a:t>*</a:t>
            </a: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ВАЖНО! При подготовке дел к подшивке (переплету) металлические скрепления (булавки, скрепки) из документов удал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Объект 3" descr=""/>
          <p:cNvPicPr/>
          <p:nvPr/>
        </p:nvPicPr>
        <p:blipFill>
          <a:blip r:embed="rId1"/>
          <a:stretch/>
        </p:blipFill>
        <p:spPr>
          <a:xfrm>
            <a:off x="5796000" y="4725000"/>
            <a:ext cx="3079080" cy="1728000"/>
          </a:xfrm>
          <a:prstGeom prst="rect">
            <a:avLst/>
          </a:prstGeom>
          <a:ln w="0">
            <a:noFill/>
          </a:ln>
        </p:spPr>
      </p:pic>
      <p:sp>
        <p:nvSpPr>
          <p:cNvPr id="99" name="Овал 5"/>
          <p:cNvSpPr/>
          <p:nvPr/>
        </p:nvSpPr>
        <p:spPr>
          <a:xfrm>
            <a:off x="0" y="494100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4.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шивка дела </a:t>
            </a:r>
            <a:endParaRPr b="0" lang="ru-RU" sz="2800" spc="-1" strike="noStrike">
              <a:solidFill>
                <a:srgbClr val="611515"/>
              </a:solidFill>
              <a:latin typeface="Calibri"/>
            </a:endParaRPr>
          </a:p>
        </p:txBody>
      </p:sp>
      <p:pic>
        <p:nvPicPr>
          <p:cNvPr id="101" name="Объект 4" descr=""/>
          <p:cNvPicPr/>
          <p:nvPr/>
        </p:nvPicPr>
        <p:blipFill>
          <a:blip r:embed="rId1"/>
          <a:stretch/>
        </p:blipFill>
        <p:spPr>
          <a:xfrm>
            <a:off x="4860000" y="1772640"/>
            <a:ext cx="3717000" cy="2084400"/>
          </a:xfrm>
          <a:prstGeom prst="rect">
            <a:avLst/>
          </a:prstGeom>
          <a:ln w="0">
            <a:noFill/>
          </a:ln>
        </p:spPr>
      </p:pic>
      <p:pic>
        <p:nvPicPr>
          <p:cNvPr id="102" name="Объект 5" descr=""/>
          <p:cNvPicPr/>
          <p:nvPr/>
        </p:nvPicPr>
        <p:blipFill>
          <a:blip r:embed="rId2"/>
          <a:stretch/>
        </p:blipFill>
        <p:spPr>
          <a:xfrm>
            <a:off x="1915200" y="1340640"/>
            <a:ext cx="3520440" cy="21823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1915200" y="764640"/>
            <a:ext cx="705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Примеры проведения научно-технической обработки докуме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Объект 13" descr=""/>
          <p:cNvPicPr/>
          <p:nvPr/>
        </p:nvPicPr>
        <p:blipFill>
          <a:blip r:embed="rId3"/>
          <a:stretch/>
        </p:blipFill>
        <p:spPr>
          <a:xfrm>
            <a:off x="1915200" y="3988440"/>
            <a:ext cx="3087720" cy="1732680"/>
          </a:xfrm>
          <a:prstGeom prst="rect">
            <a:avLst/>
          </a:prstGeom>
          <a:ln w="0">
            <a:noFill/>
          </a:ln>
        </p:spPr>
      </p:pic>
      <p:pic>
        <p:nvPicPr>
          <p:cNvPr id="105" name="Объект 14" descr=""/>
          <p:cNvPicPr/>
          <p:nvPr/>
        </p:nvPicPr>
        <p:blipFill>
          <a:blip r:embed="rId4"/>
          <a:stretch/>
        </p:blipFill>
        <p:spPr>
          <a:xfrm>
            <a:off x="4774680" y="4289400"/>
            <a:ext cx="3887280" cy="21823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2267640" y="5912280"/>
            <a:ext cx="19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Подшитое де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13"/>
          <p:cNvCxnSpPr/>
          <p:nvPr/>
        </p:nvCxnSpPr>
        <p:spPr>
          <a:xfrm>
            <a:off x="3923640" y="6186240"/>
            <a:ext cx="1512720" cy="360"/>
          </a:xfrm>
          <a:prstGeom prst="straightConnector1">
            <a:avLst/>
          </a:prstGeom>
          <a:ln>
            <a:solidFill>
              <a:srgbClr val="ff0000"/>
            </a:solidFill>
            <a:tailEnd len="med" type="triangle" w="med"/>
          </a:ln>
        </p:spPr>
      </p:cxnSp>
      <p:sp>
        <p:nvSpPr>
          <p:cNvPr id="108" name="Овал 11"/>
          <p:cNvSpPr/>
          <p:nvPr/>
        </p:nvSpPr>
        <p:spPr>
          <a:xfrm>
            <a:off x="0" y="514872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4.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979640" y="1052640"/>
            <a:ext cx="3888000" cy="647640"/>
          </a:xfrm>
          <a:prstGeom prst="rect">
            <a:avLst/>
          </a:prstGeom>
          <a:solidFill>
            <a:srgbClr val="00addc"/>
          </a:solidFill>
          <a:ln>
            <a:solidFill>
              <a:srgbClr val="007fa2"/>
            </a:solidFill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ст-заверитель </a:t>
            </a:r>
            <a:endParaRPr b="0" lang="ru-RU" sz="32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43120" y="692640"/>
            <a:ext cx="4124880" cy="5904360"/>
          </a:xfrm>
          <a:prstGeom prst="rect">
            <a:avLst/>
          </a:prstGeom>
          <a:solidFill>
            <a:srgbClr val="d9d9d9"/>
          </a:solidFill>
          <a:ln w="12600">
            <a:solidFill>
              <a:srgbClr val="611515"/>
            </a:solidFill>
            <a:miter/>
          </a:ln>
        </p:spPr>
        <p:txBody>
          <a:bodyPr anchor="t">
            <a:normAutofit fontScale="73000"/>
          </a:bodyPr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600" spc="-1" strike="noStrike">
                <a:solidFill>
                  <a:schemeClr val="dk1"/>
                </a:solidFill>
                <a:latin typeface="Arial"/>
              </a:rPr>
              <a:t>К делам составляется лист-заверитель </a:t>
            </a:r>
            <a:endParaRPr b="0" lang="ru-RU" sz="2600" spc="-1" strike="noStrike">
              <a:solidFill>
                <a:srgbClr val="611515"/>
              </a:solidFill>
              <a:latin typeface="Arial Narrow"/>
            </a:endParaRPr>
          </a:p>
          <a:p>
            <a:pPr marL="214920" indent="-21492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dk1"/>
                </a:solidFill>
                <a:latin typeface="Arial"/>
              </a:rPr>
              <a:t>Лист-заверитель дела составляется на отдельном листе, в картотеках - на отдельном листе формата карточки. Лист-заверитель дела подписывается его составителем. Все последующие изменения в составе и состоянии дела (повреждения, замена подлинных документов) отмечаются в листе-заверителе со ссылкой на соответствующий акт.</a:t>
            </a:r>
            <a:endParaRPr b="0" lang="ru-RU" sz="2400" spc="-1" strike="noStrike">
              <a:solidFill>
                <a:srgbClr val="611515"/>
              </a:solidFill>
              <a:latin typeface="Arial Narrow"/>
            </a:endParaRPr>
          </a:p>
          <a:p>
            <a:pPr marL="214920" indent="-21492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dk1"/>
                </a:solidFill>
                <a:latin typeface="Arial"/>
              </a:rPr>
              <a:t>Запрещается выносить лист-заверитель на обложку дела или чистый оборот листа последнего документа. Если дело подшито или переплетено без бланка листа-заверителя, он должен быть наклеен за верхнюю часть листа на внутреннюю сторону обложки в конце дела.</a:t>
            </a:r>
            <a:endParaRPr b="0" lang="ru-RU" sz="24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112" name="Содержимое 2"/>
          <p:cNvSpPr/>
          <p:nvPr/>
        </p:nvSpPr>
        <p:spPr>
          <a:xfrm>
            <a:off x="5868000" y="1268640"/>
            <a:ext cx="3275640" cy="3456000"/>
          </a:xfrm>
          <a:prstGeom prst="rect">
            <a:avLst/>
          </a:prstGeom>
          <a:noFill/>
          <a:ln w="38100">
            <a:solidFill>
              <a:srgbClr val="6115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26000"/>
          </a:bodyPr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4400" spc="-1" strike="noStrike">
                <a:solidFill>
                  <a:srgbClr val="611515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611515"/>
                </a:solidFill>
                <a:latin typeface="Times New Roman"/>
              </a:rPr>
              <a:t>ЛИСТ-ЗАВЕРИТЕЛЬ ДЕ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611515"/>
                </a:solidFill>
                <a:latin typeface="Times New Roman"/>
              </a:rPr>
              <a:t>	</a:t>
            </a:r>
            <a:r>
              <a:rPr b="0" i="1" lang="ru-RU" sz="4400" spc="-1" strike="noStrike">
                <a:solidFill>
                  <a:srgbClr val="611515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В деле подшито и пронумеровано </a:t>
            </a:r>
            <a:r>
              <a:rPr b="0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 </a:t>
            </a:r>
            <a:r>
              <a:rPr b="1" i="1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40</a:t>
            </a:r>
            <a:r>
              <a:rPr b="0" i="1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 </a:t>
            </a:r>
            <a:r>
              <a:rPr b="1" i="1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(сорок)  </a:t>
            </a: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лис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                                                                                                      </a:t>
            </a: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(цифрами и прописью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4400" spc="-1" strike="noStrike">
                <a:solidFill>
                  <a:srgbClr val="611515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611515"/>
                </a:solidFill>
                <a:latin typeface="Times New Roman"/>
              </a:rPr>
              <a:t>с №</a:t>
            </a:r>
            <a:r>
              <a:rPr b="1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 </a:t>
            </a:r>
            <a:r>
              <a:rPr b="1" i="1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1 </a:t>
            </a:r>
            <a:r>
              <a:rPr b="1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611515"/>
                </a:solidFill>
                <a:latin typeface="Times New Roman"/>
              </a:rPr>
              <a:t> по №</a:t>
            </a:r>
            <a:r>
              <a:rPr b="1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 </a:t>
            </a:r>
            <a:r>
              <a:rPr b="1" i="1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       </a:t>
            </a:r>
            <a:r>
              <a:rPr b="0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в том числ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литерные номера лис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пропущенные номера лис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4400" spc="-1" strike="noStrike">
                <a:solidFill>
                  <a:srgbClr val="611515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611515"/>
                </a:solidFill>
                <a:latin typeface="Times New Roman"/>
              </a:rPr>
              <a:t>+ листов внутренней описи  </a:t>
            </a:r>
            <a:r>
              <a:rPr b="1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611515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611515"/>
                </a:solidFill>
                <a:latin typeface="Times New Roman"/>
              </a:rPr>
              <a:t>	</a:t>
            </a:r>
            <a:r>
              <a:rPr b="0" i="1" lang="ru-RU" sz="4400" spc="-1" strike="noStrike">
                <a:solidFill>
                  <a:srgbClr val="611515"/>
                </a:solidFill>
                <a:latin typeface="Times New Roman"/>
              </a:rPr>
              <a:t>Заведующий архивохранилищем     </a:t>
            </a:r>
            <a:r>
              <a:rPr b="0" i="1" lang="ru-RU" sz="4400" spc="-1" strike="noStrike" u="sng">
                <a:solidFill>
                  <a:srgbClr val="611515"/>
                </a:solidFill>
                <a:uFillTx/>
                <a:latin typeface="Times New Roman"/>
              </a:rPr>
              <a:t>Николаева</a:t>
            </a:r>
            <a:r>
              <a:rPr b="0" i="1" lang="ru-RU" sz="4400" spc="-1" strike="noStrike">
                <a:solidFill>
                  <a:srgbClr val="611515"/>
                </a:solidFill>
                <a:latin typeface="Times New Roman"/>
              </a:rPr>
              <a:t>                       Н.Н. Николае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611515"/>
                </a:solidFill>
                <a:latin typeface="Times New Roman"/>
              </a:rPr>
              <a:t>	</a:t>
            </a:r>
            <a:r>
              <a:rPr b="0" i="1" lang="ru-RU" sz="4400" spc="-1" strike="noStrike">
                <a:solidFill>
                  <a:srgbClr val="611515"/>
                </a:solidFill>
                <a:latin typeface="Times New Roman"/>
              </a:rPr>
              <a:t>12 Марта  2016 г.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i="1" lang="ru-RU" sz="5500" spc="-1" strike="noStrike">
                <a:solidFill>
                  <a:srgbClr val="611515"/>
                </a:solidFill>
                <a:latin typeface="Times New Roman"/>
              </a:rPr>
              <a:t>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6"/>
          <p:cNvSpPr/>
          <p:nvPr/>
        </p:nvSpPr>
        <p:spPr>
          <a:xfrm>
            <a:off x="0" y="494100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4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4"/>
          <p:cNvSpPr/>
          <p:nvPr/>
        </p:nvSpPr>
        <p:spPr>
          <a:xfrm>
            <a:off x="4932000" y="620640"/>
            <a:ext cx="4211640" cy="62370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rmAutofit fontScale="38000"/>
          </a:bodyPr>
          <a:p>
            <a:pPr indent="0" algn="ctr">
              <a:lnSpc>
                <a:spcPct val="90000"/>
              </a:lnSpc>
              <a:buNone/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формление обложки дела </a:t>
            </a:r>
            <a:br>
              <a:rPr sz="3200"/>
            </a:br>
            <a:endParaRPr b="0" lang="ru-RU" sz="32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35640" y="620640"/>
            <a:ext cx="3384000" cy="6237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0000"/>
          </a:bodyPr>
          <a:p>
            <a:pPr marL="22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611515"/>
              </a:solidFill>
              <a:latin typeface="Arial Narrow"/>
            </a:endParaRPr>
          </a:p>
          <a:p>
            <a:pPr marL="22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611515"/>
                </a:solidFill>
                <a:latin typeface="Arial"/>
              </a:rPr>
              <a:t>На обложке дела указываются:</a:t>
            </a:r>
            <a:endParaRPr b="0" lang="ru-RU" sz="2200" spc="-1" strike="noStrike">
              <a:solidFill>
                <a:srgbClr val="611515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"/>
              </a:rPr>
              <a:t>наименование организации и ее непосредственная подчиненность;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"/>
              </a:rPr>
              <a:t>наименование структурного подразделения;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"/>
              </a:rPr>
              <a:t>индекс дела;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"/>
              </a:rPr>
              <a:t>номер тома (части);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"/>
              </a:rPr>
              <a:t>заголовок дела (тома, части);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"/>
              </a:rPr>
              <a:t>крайние даты дела (тома, части);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"/>
              </a:rPr>
              <a:t>количество листов в деле (томе, части);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"/>
              </a:rPr>
              <a:t>срок хранения дела;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"/>
              </a:rPr>
              <a:t>архивный шифр дела.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212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pic>
        <p:nvPicPr>
          <p:cNvPr id="117" name="Рисунок 3" descr=""/>
          <p:cNvPicPr/>
          <p:nvPr/>
        </p:nvPicPr>
        <p:blipFill>
          <a:blip r:embed="rId1"/>
          <a:srcRect l="0" t="7208" r="0" b="9245"/>
          <a:stretch/>
        </p:blipFill>
        <p:spPr>
          <a:xfrm>
            <a:off x="5257080" y="692640"/>
            <a:ext cx="3886560" cy="5832360"/>
          </a:xfrm>
          <a:prstGeom prst="rect">
            <a:avLst/>
          </a:prstGeom>
          <a:ln w="0">
            <a:solidFill>
              <a:srgbClr val="611515">
                <a:lumMod val="60000"/>
                <a:lumOff val="40000"/>
              </a:srgbClr>
            </a:solidFill>
          </a:ln>
        </p:spPr>
      </p:pic>
      <p:sp>
        <p:nvSpPr>
          <p:cNvPr id="118" name="Овал 5"/>
          <p:cNvSpPr/>
          <p:nvPr/>
        </p:nvSpPr>
        <p:spPr>
          <a:xfrm>
            <a:off x="0" y="494100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4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rmAutofit fontScale="38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умерация листов </a:t>
            </a:r>
            <a:br>
              <a:rPr sz="3200"/>
            </a:br>
            <a:endParaRPr b="0" lang="ru-RU" sz="32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0080" y="836640"/>
            <a:ext cx="4104000" cy="576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300a0a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300a0a"/>
                </a:solidFill>
                <a:latin typeface="Arial"/>
              </a:rPr>
              <a:t>Листы в целях обеспечения сохранности и закрепления порядка  расположения документов, включенных в дело (кроме внутренней описи и листа-заверителя), </a:t>
            </a:r>
            <a:r>
              <a:rPr b="1" lang="ru-RU" sz="1600" spc="-1" strike="noStrike">
                <a:solidFill>
                  <a:srgbClr val="300a0a"/>
                </a:solidFill>
                <a:latin typeface="Arial"/>
              </a:rPr>
              <a:t>нумеруются </a:t>
            </a:r>
            <a:r>
              <a:rPr b="0" lang="ru-RU" sz="1600" spc="-1" strike="noStrike">
                <a:solidFill>
                  <a:srgbClr val="300a0a"/>
                </a:solidFill>
                <a:latin typeface="Arial"/>
              </a:rPr>
              <a:t>в развернутом виде арабскими цифрами валовой нумерацией в правом верхнем углу, не задевая текста документов, черным графическим карандашом или нумератором.</a:t>
            </a:r>
            <a:endParaRPr b="0" lang="ru-RU" sz="1600" spc="-1" strike="noStrike">
              <a:solidFill>
                <a:srgbClr val="611515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300a0a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300a0a"/>
                </a:solidFill>
                <a:latin typeface="Arial"/>
              </a:rPr>
              <a:t>Фотографии, чертежи, диаграммы и другие иллюстративные и специфические документы, представляющие самостоятельный лист в деле, нумеруются на оборотной стороне в левом верхнем углу</a:t>
            </a:r>
            <a:endParaRPr b="0" lang="ru-RU" sz="1600" spc="-1" strike="noStrike">
              <a:solidFill>
                <a:srgbClr val="611515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300a0a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300a0a"/>
                </a:solidFill>
                <a:latin typeface="Arial"/>
              </a:rPr>
              <a:t>Листы внутренней описи документов дела нумеруются отдельно</a:t>
            </a:r>
            <a:endParaRPr b="0" lang="ru-RU" sz="1600" spc="-1" strike="noStrike">
              <a:solidFill>
                <a:srgbClr val="611515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300a0a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300a0a"/>
                </a:solidFill>
                <a:latin typeface="Arial"/>
              </a:rPr>
              <a:t>Сложенный лист разворачивается и нумеруется в правом верхнем углу. </a:t>
            </a:r>
            <a:endParaRPr b="0" lang="ru-RU" sz="1600" spc="-1" strike="noStrike">
              <a:solidFill>
                <a:srgbClr val="611515"/>
              </a:solidFill>
              <a:latin typeface="Arial Narrow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611515"/>
              </a:solidFill>
              <a:latin typeface="Arial Narrow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611515"/>
              </a:solidFill>
              <a:latin typeface="Arial Narrow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611515"/>
              </a:solidFill>
              <a:latin typeface="Arial Narrow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611515"/>
              </a:solidFill>
              <a:latin typeface="Arial Narrow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611515"/>
              </a:solidFill>
              <a:latin typeface="Arial Narrow"/>
            </a:endParaRPr>
          </a:p>
        </p:txBody>
      </p:sp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6139800" y="692640"/>
            <a:ext cx="3003840" cy="3939840"/>
          </a:xfrm>
          <a:prstGeom prst="rect">
            <a:avLst/>
          </a:prstGeom>
          <a:ln w="0">
            <a:solidFill>
              <a:srgbClr val="611515">
                <a:lumMod val="60000"/>
                <a:lumOff val="40000"/>
              </a:srgbClr>
            </a:solidFill>
          </a:ln>
        </p:spPr>
      </p:pic>
      <p:sp>
        <p:nvSpPr>
          <p:cNvPr id="122" name="TextBox 4"/>
          <p:cNvSpPr/>
          <p:nvPr/>
        </p:nvSpPr>
        <p:spPr>
          <a:xfrm>
            <a:off x="6516360" y="4941000"/>
            <a:ext cx="2088000" cy="1735560"/>
          </a:xfrm>
          <a:prstGeom prst="rect">
            <a:avLst/>
          </a:prstGeom>
          <a:solidFill>
            <a:schemeClr val="tx1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ВАЖНО! Употребление чернил и цветных карандашей для нумерации листов запрещ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5"/>
          <p:cNvSpPr/>
          <p:nvPr/>
        </p:nvSpPr>
        <p:spPr>
          <a:xfrm>
            <a:off x="0" y="494100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4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1640" y="0"/>
            <a:ext cx="7452000" cy="76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рмативные документы </a:t>
            </a:r>
            <a:endParaRPr b="0" lang="ru-RU" sz="32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1691640" y="1052640"/>
            <a:ext cx="7452000" cy="530172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Федеральный закон от 22 октября 2004 года № 125-Ф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«Об архивном деле в Российской Федерац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Закон Свердловской области от 25 марта 2005 года № 5-О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«Об архивном деле в Свердловской област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приказ Министерства культуры России от 31.03.20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526 «Об утверждении правил организации хранения, комплектования, учета и использования документов Архивного фонда Российской Федерации и других архивных документов в органах государственной власти, органах местного самоуправления и организациях»</a:t>
            </a:r>
            <a:r>
              <a:rPr b="1" lang="en-US" sz="1800" spc="-1" strike="noStrike">
                <a:solidFill>
                  <a:srgbClr val="300a0a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приказ Федерального архивного агентства от 02.03.2020 № 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«Об утверждении Правил организации хранения, комплектования, учета и использования документов Архивного фонда Российской Федерации и других архивных документов в государственных и муниципальных архивах, музеях и библиотеках, научных организация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умерация листов </a:t>
            </a:r>
            <a:endParaRPr b="0" lang="ru-RU" sz="32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1979640" y="4005000"/>
            <a:ext cx="7164000" cy="575640"/>
          </a:xfrm>
          <a:prstGeom prst="rect">
            <a:avLst/>
          </a:prstGeom>
          <a:solidFill>
            <a:srgbClr val="ea157a"/>
          </a:solidFill>
          <a:ln>
            <a:solidFill>
              <a:srgbClr val="ad0f5a"/>
            </a:solidFill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43120" y="969840"/>
            <a:ext cx="7400520" cy="4906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5000"/>
          </a:bodyPr>
          <a:p>
            <a:pPr marL="217080" indent="-21708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900" spc="-1" strike="noStrike">
                <a:solidFill>
                  <a:srgbClr val="611515"/>
                </a:solidFill>
                <a:latin typeface="Arial Narrow"/>
              </a:rPr>
              <a:t>Лист с наглухо наклеенными документами (вырезками, выписками, фотографиями и т.п.) нумеруется как один лист. </a:t>
            </a:r>
            <a:endParaRPr b="0" lang="ru-RU" sz="1900" spc="-1" strike="noStrike">
              <a:solidFill>
                <a:srgbClr val="611515"/>
              </a:solidFill>
              <a:latin typeface="Arial Narrow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900" spc="-1" strike="noStrike">
                <a:solidFill>
                  <a:srgbClr val="611515"/>
                </a:solidFill>
                <a:latin typeface="Arial Narrow"/>
              </a:rPr>
              <a:t>Если к документу подклеены одним краем другие документы (вырезки, вставки текста, переводы и т.п.), то каждый документ нумеруется отдельно</a:t>
            </a:r>
            <a:endParaRPr b="0" lang="ru-RU" sz="1900" spc="-1" strike="noStrike">
              <a:solidFill>
                <a:srgbClr val="611515"/>
              </a:solidFill>
              <a:latin typeface="Arial Narrow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900" spc="-1" strike="noStrike">
                <a:solidFill>
                  <a:srgbClr val="611515"/>
                </a:solidFill>
                <a:latin typeface="Arial Narrow"/>
              </a:rPr>
              <a:t>Подшитые в дело конверты с вложениями нумеруются; при этом вначале нумеруется конверт, а затем очередным номером каждое вложение в конверте</a:t>
            </a:r>
            <a:endParaRPr b="0" lang="ru-RU" sz="1900" spc="-1" strike="noStrike">
              <a:solidFill>
                <a:srgbClr val="611515"/>
              </a:solidFill>
              <a:latin typeface="Arial Narrow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900" spc="-1" strike="noStrike">
                <a:solidFill>
                  <a:srgbClr val="611515"/>
                </a:solidFill>
                <a:latin typeface="Arial Narrow"/>
              </a:rPr>
              <a:t>Подшитые в дело документы с собственной нумерацией листов (включая печатные издания) могут нумероваться в общем порядке или сохранять собственную нумерацию, если она соответствует порядковому расположению листов в деле</a:t>
            </a:r>
            <a:endParaRPr b="0" lang="ru-RU" sz="1900" spc="-1" strike="noStrike">
              <a:solidFill>
                <a:srgbClr val="611515"/>
              </a:solidFill>
              <a:latin typeface="Arial Narrow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900" spc="-1" strike="noStrike">
                <a:solidFill>
                  <a:srgbClr val="611515"/>
                </a:solidFill>
                <a:latin typeface="Arial Narrow"/>
              </a:rPr>
              <a:t>Листы дел, состоящих из нескольких томов или частей, нумеруются по каждому тому или части отдельно</a:t>
            </a:r>
            <a:endParaRPr b="0" lang="ru-RU" sz="1900" spc="-1" strike="noStrike">
              <a:solidFill>
                <a:srgbClr val="611515"/>
              </a:solidFill>
              <a:latin typeface="Arial Narrow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611515"/>
                </a:solidFill>
                <a:latin typeface="Arial Narrow"/>
              </a:rPr>
              <a:t>При наличии отдельных ошибок в нумерации листов в делах допускается употребление литерных номеров листов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611515"/>
                </a:solidFill>
                <a:latin typeface="Arial Narrow"/>
              </a:rPr>
              <a:t>В случае обнаружения большого числа ошибок дела подлежит перенумерации 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127" name="Овал 4"/>
          <p:cNvSpPr/>
          <p:nvPr/>
        </p:nvSpPr>
        <p:spPr>
          <a:xfrm>
            <a:off x="0" y="494100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4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43120" y="836640"/>
            <a:ext cx="3836520" cy="5544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89000"/>
          </a:bodyPr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Для учета документов определенных категорий дел на бумажном носителе (личные, судебные дела, дела о присуждении ученых степеней и присвоении ученых званий, дела, связанные с выдачей авторских свидетельств и патентных изобретений) составляется внутренняя опись документов дела.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Если дело на бумажном носителе переплетено или подшито без бланка внутренней описи документов, то составленная по установленной форме внутренняя опись подклеивается к внутренней стороне лицевой обложки дела.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611515"/>
                </a:solidFill>
                <a:latin typeface="Arial Narrow"/>
              </a:rPr>
              <a:t>Изменения состава документов дела (изъятия, включения документов, замена документов копиями) отражаются в графе "Примечание" внутренней описи со ссылками на соответствующие акты. При необходимости могут быть составлены новая итоговая запись к внутренней описи и лист-заверитель дела.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ставление внутренней описи дела </a:t>
            </a:r>
            <a:endParaRPr b="0" lang="ru-RU" sz="2800" spc="-1" strike="noStrike">
              <a:solidFill>
                <a:srgbClr val="611515"/>
              </a:solidFill>
              <a:latin typeface="Calibri"/>
            </a:endParaRPr>
          </a:p>
        </p:txBody>
      </p:sp>
      <p:pic>
        <p:nvPicPr>
          <p:cNvPr id="130" name="Рисунок 3" descr=""/>
          <p:cNvPicPr/>
          <p:nvPr/>
        </p:nvPicPr>
        <p:blipFill>
          <a:blip r:embed="rId1"/>
          <a:srcRect l="0" t="3493" r="0" b="7819"/>
          <a:stretch/>
        </p:blipFill>
        <p:spPr>
          <a:xfrm>
            <a:off x="5580000" y="1124640"/>
            <a:ext cx="3408480" cy="5040360"/>
          </a:xfrm>
          <a:prstGeom prst="rect">
            <a:avLst/>
          </a:prstGeom>
          <a:ln w="0">
            <a:solidFill>
              <a:srgbClr val="611515">
                <a:lumMod val="60000"/>
                <a:lumOff val="40000"/>
              </a:srgbClr>
            </a:solidFill>
          </a:ln>
        </p:spPr>
      </p:pic>
      <p:sp>
        <p:nvSpPr>
          <p:cNvPr id="131" name="Овал 4"/>
          <p:cNvSpPr/>
          <p:nvPr/>
        </p:nvSpPr>
        <p:spPr>
          <a:xfrm>
            <a:off x="0" y="494100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4.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ставление описи дел</a:t>
            </a:r>
            <a:endParaRPr b="0" lang="ru-RU" sz="2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07640" y="764640"/>
            <a:ext cx="6716880" cy="5616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611515"/>
                </a:solidFill>
                <a:latin typeface="Arial"/>
              </a:rPr>
              <a:t>Описи составляются отдельно на дела постоянного хранения; дела временных (свыше 10 лет) сроков хранения, в том числе по личному составу.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pic>
        <p:nvPicPr>
          <p:cNvPr id="134" name="Рисунок 3" descr=""/>
          <p:cNvPicPr/>
          <p:nvPr/>
        </p:nvPicPr>
        <p:blipFill>
          <a:blip r:embed="rId1"/>
          <a:stretch/>
        </p:blipFill>
        <p:spPr>
          <a:xfrm>
            <a:off x="5436000" y="2535840"/>
            <a:ext cx="3483360" cy="4321800"/>
          </a:xfrm>
          <a:prstGeom prst="rect">
            <a:avLst/>
          </a:prstGeom>
          <a:ln w="0">
            <a:solidFill>
              <a:srgbClr val="611515">
                <a:lumMod val="40000"/>
                <a:lumOff val="60000"/>
              </a:srgbClr>
            </a:solidFill>
          </a:ln>
        </p:spPr>
      </p:pic>
      <p:pic>
        <p:nvPicPr>
          <p:cNvPr id="135" name="Рисунок 9" descr="73.gif"/>
          <p:cNvPicPr/>
          <p:nvPr/>
        </p:nvPicPr>
        <p:blipFill>
          <a:blip r:embed="rId2"/>
          <a:stretch/>
        </p:blipFill>
        <p:spPr>
          <a:xfrm>
            <a:off x="1907640" y="2565000"/>
            <a:ext cx="3384000" cy="4292640"/>
          </a:xfrm>
          <a:prstGeom prst="rect">
            <a:avLst/>
          </a:prstGeom>
          <a:ln w="0">
            <a:solidFill>
              <a:srgbClr val="611515">
                <a:lumMod val="60000"/>
                <a:lumOff val="40000"/>
              </a:srgbClr>
            </a:solidFill>
          </a:ln>
        </p:spPr>
      </p:pic>
      <p:sp>
        <p:nvSpPr>
          <p:cNvPr id="136" name="Овал 5"/>
          <p:cNvSpPr/>
          <p:nvPr/>
        </p:nvSpPr>
        <p:spPr>
          <a:xfrm>
            <a:off x="152280" y="509364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4.3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112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ставление описи электронных дел, документов</a:t>
            </a:r>
            <a:endParaRPr b="0" lang="ru-RU" sz="2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1763640" y="1124640"/>
            <a:ext cx="7380000" cy="167364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Отдельные описи составляются на единицы хранения электронных документов постоянного хран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временных (свыше 10 лет) сроков хранения, в том числе по личному соста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4" descr=""/>
          <p:cNvPicPr/>
          <p:nvPr/>
        </p:nvPicPr>
        <p:blipFill>
          <a:blip r:embed="rId1"/>
          <a:stretch/>
        </p:blipFill>
        <p:spPr>
          <a:xfrm>
            <a:off x="1691640" y="2277000"/>
            <a:ext cx="3744000" cy="4580640"/>
          </a:xfrm>
          <a:prstGeom prst="rect">
            <a:avLst/>
          </a:prstGeom>
          <a:ln w="0">
            <a:solidFill>
              <a:srgbClr val="ffffff">
                <a:lumMod val="50000"/>
              </a:srgbClr>
            </a:solidFill>
          </a:ln>
        </p:spPr>
      </p:pic>
      <p:pic>
        <p:nvPicPr>
          <p:cNvPr id="140" name="Рисунок 5" descr=""/>
          <p:cNvPicPr/>
          <p:nvPr/>
        </p:nvPicPr>
        <p:blipFill>
          <a:blip r:embed="rId2"/>
          <a:stretch/>
        </p:blipFill>
        <p:spPr>
          <a:xfrm>
            <a:off x="5364000" y="2061000"/>
            <a:ext cx="3779640" cy="4580640"/>
          </a:xfrm>
          <a:prstGeom prst="rect">
            <a:avLst/>
          </a:prstGeom>
          <a:ln w="0">
            <a:solidFill>
              <a:srgbClr val="ffffff">
                <a:lumMod val="50000"/>
              </a:srgbClr>
            </a:solidFill>
          </a:ln>
        </p:spPr>
      </p:pic>
      <p:sp>
        <p:nvSpPr>
          <p:cNvPr id="141" name="Овал 6"/>
          <p:cNvSpPr/>
          <p:nvPr/>
        </p:nvSpPr>
        <p:spPr>
          <a:xfrm>
            <a:off x="0" y="5148720"/>
            <a:ext cx="2051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4.3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, 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5"/>
          <p:cNvSpPr/>
          <p:nvPr/>
        </p:nvSpPr>
        <p:spPr>
          <a:xfrm>
            <a:off x="1763640" y="836640"/>
            <a:ext cx="7380000" cy="60210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836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ись дел электронных дел, документов временных (свыше 10 лет) хранения </a:t>
            </a:r>
            <a:endParaRPr b="0" lang="ru-RU" sz="2400" spc="-1" strike="noStrike">
              <a:solidFill>
                <a:srgbClr val="611515"/>
              </a:solidFill>
              <a:latin typeface="Calibri"/>
            </a:endParaRPr>
          </a:p>
        </p:txBody>
      </p:sp>
      <p:pic>
        <p:nvPicPr>
          <p:cNvPr id="144" name="Объект 3" descr=""/>
          <p:cNvPicPr/>
          <p:nvPr/>
        </p:nvPicPr>
        <p:blipFill>
          <a:blip r:embed="rId1"/>
          <a:stretch/>
        </p:blipFill>
        <p:spPr>
          <a:xfrm>
            <a:off x="899640" y="836640"/>
            <a:ext cx="3860280" cy="48355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"/>
          <p:cNvPicPr/>
          <p:nvPr/>
        </p:nvPicPr>
        <p:blipFill>
          <a:blip r:embed="rId2"/>
          <a:stretch/>
        </p:blipFill>
        <p:spPr>
          <a:xfrm>
            <a:off x="4932000" y="1772640"/>
            <a:ext cx="4035240" cy="4822200"/>
          </a:xfrm>
          <a:prstGeom prst="rect">
            <a:avLst/>
          </a:prstGeom>
          <a:ln w="0">
            <a:noFill/>
          </a:ln>
        </p:spPr>
      </p:pic>
      <p:sp>
        <p:nvSpPr>
          <p:cNvPr id="146" name="Овал 7"/>
          <p:cNvSpPr/>
          <p:nvPr/>
        </p:nvSpPr>
        <p:spPr>
          <a:xfrm>
            <a:off x="0" y="5148720"/>
            <a:ext cx="1979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4.3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, 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ставление описи дел</a:t>
            </a:r>
            <a:endParaRPr b="0" lang="ru-RU" sz="32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43120" y="836640"/>
            <a:ext cx="4052880" cy="568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611515"/>
                </a:solidFill>
                <a:latin typeface="Arial Narrow"/>
              </a:rPr>
              <a:t>Сводные описи дел, документов организации состоят из годовых разделов, составляемых на основе переданных в архив организации описей дел структурных подразделений за определенные годы, и систематизированных в пределах каждого года в соответствии с утвержденной структурой организации на каждый год. 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611515"/>
                </a:solidFill>
                <a:latin typeface="Arial Narrow"/>
              </a:rPr>
              <a:t>Описи дел, документов составляются по установленной форме  </a:t>
            </a:r>
            <a:r>
              <a:rPr b="1" lang="ru-RU" sz="2000" spc="-1" strike="noStrike">
                <a:solidFill>
                  <a:srgbClr val="611515"/>
                </a:solidFill>
                <a:latin typeface="Arial Narrow"/>
              </a:rPr>
              <a:t>(приложения № 14, 15. 16, 17, 18) </a:t>
            </a:r>
            <a:r>
              <a:rPr b="0" lang="ru-RU" sz="2000" spc="-1" strike="noStrike">
                <a:solidFill>
                  <a:srgbClr val="611515"/>
                </a:solidFill>
                <a:latin typeface="Arial Narrow"/>
              </a:rPr>
              <a:t>и состоят из описательных статей единиц хранения, итоговой записи , листа-заверителя и справочного аппарата к описи дел. 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</p:txBody>
      </p:sp>
      <p:pic>
        <p:nvPicPr>
          <p:cNvPr id="149" name="Рисунок 3" descr=""/>
          <p:cNvPicPr/>
          <p:nvPr/>
        </p:nvPicPr>
        <p:blipFill>
          <a:blip r:embed="rId1"/>
          <a:stretch/>
        </p:blipFill>
        <p:spPr>
          <a:xfrm>
            <a:off x="5635440" y="980640"/>
            <a:ext cx="3483360" cy="4321800"/>
          </a:xfrm>
          <a:prstGeom prst="rect">
            <a:avLst/>
          </a:prstGeom>
          <a:ln w="0">
            <a:solidFill>
              <a:srgbClr val="611515">
                <a:lumMod val="40000"/>
                <a:lumOff val="60000"/>
              </a:srgbClr>
            </a:solidFill>
          </a:ln>
        </p:spPr>
      </p:pic>
      <p:pic>
        <p:nvPicPr>
          <p:cNvPr id="150" name="Рисунок 4" descr=""/>
          <p:cNvPicPr/>
          <p:nvPr/>
        </p:nvPicPr>
        <p:blipFill>
          <a:blip r:embed="rId2"/>
          <a:stretch/>
        </p:blipFill>
        <p:spPr>
          <a:xfrm>
            <a:off x="5660280" y="980640"/>
            <a:ext cx="3483360" cy="4321800"/>
          </a:xfrm>
          <a:prstGeom prst="rect">
            <a:avLst/>
          </a:prstGeom>
          <a:ln w="0">
            <a:solidFill>
              <a:srgbClr val="611515">
                <a:lumMod val="40000"/>
                <a:lumOff val="60000"/>
              </a:srgbClr>
            </a:solidFill>
          </a:ln>
        </p:spPr>
      </p:pic>
      <p:sp>
        <p:nvSpPr>
          <p:cNvPr id="151" name="Овал 5"/>
          <p:cNvSpPr/>
          <p:nvPr/>
        </p:nvSpPr>
        <p:spPr>
          <a:xfrm>
            <a:off x="0" y="514872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исательные статьи описи дел </a:t>
            </a:r>
            <a:endParaRPr b="0" lang="ru-RU" sz="32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43120" y="969840"/>
            <a:ext cx="7400520" cy="3106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611515"/>
                </a:solidFill>
                <a:uFillTx/>
                <a:latin typeface="Arial"/>
              </a:rPr>
              <a:t>Описательные статьи описи дел включает: 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порядковый номер единицы хранения;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индекс единицы хранения (по номенклатуре дел);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заголовок единицы хранения;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крайние даты единицы хранения;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срок хранения (для описей дел, документов временного хранения);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количество листов в единицы хранения;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примечание. 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pic>
        <p:nvPicPr>
          <p:cNvPr id="154" name="Рисунок 3" descr=""/>
          <p:cNvPicPr/>
          <p:nvPr/>
        </p:nvPicPr>
        <p:blipFill>
          <a:blip r:embed="rId1"/>
          <a:stretch/>
        </p:blipFill>
        <p:spPr>
          <a:xfrm>
            <a:off x="1827000" y="4077000"/>
            <a:ext cx="7316640" cy="2232000"/>
          </a:xfrm>
          <a:prstGeom prst="rect">
            <a:avLst/>
          </a:prstGeom>
          <a:ln w="0">
            <a:solidFill>
              <a:srgbClr val="611515">
                <a:lumMod val="40000"/>
                <a:lumOff val="60000"/>
              </a:srgbClr>
            </a:solidFill>
          </a:ln>
        </p:spPr>
      </p:pic>
      <p:sp>
        <p:nvSpPr>
          <p:cNvPr id="155" name="Овал 4"/>
          <p:cNvSpPr/>
          <p:nvPr/>
        </p:nvSpPr>
        <p:spPr>
          <a:xfrm>
            <a:off x="0" y="514872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836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кземплярность описей дел </a:t>
            </a:r>
            <a:endParaRPr b="0" lang="ru-RU" sz="2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79640" y="836640"/>
            <a:ext cx="7164000" cy="576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611515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611515"/>
                </a:solidFill>
                <a:latin typeface="Arial"/>
              </a:rPr>
              <a:t>Описи (годовые разделы описей) дел, документов составляются</a:t>
            </a:r>
            <a:r>
              <a:rPr b="0" lang="en-US" sz="2400" spc="-1" strike="noStrike">
                <a:solidFill>
                  <a:srgbClr val="611515"/>
                </a:solidFill>
                <a:latin typeface="Arial"/>
              </a:rPr>
              <a:t>:</a:t>
            </a:r>
            <a:endParaRPr b="0" lang="ru-RU" sz="24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611515"/>
                </a:solidFill>
                <a:latin typeface="Arial"/>
              </a:rPr>
              <a:t>- постоянного хранения – не менее чем в 4-х экземплярах: три на бумажном носителе и один – в электронном виде (в качестве рабочего экземпляра);</a:t>
            </a:r>
            <a:endParaRPr b="0" lang="ru-RU" sz="24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611515"/>
                </a:solidFill>
                <a:latin typeface="Arial"/>
              </a:rPr>
              <a:t>- временного (свыше 10 лет) хранения – не менее чем в 2-х экземплярах;</a:t>
            </a:r>
            <a:endParaRPr b="0" lang="ru-RU" sz="2400" spc="-1" strike="noStrike">
              <a:solidFill>
                <a:srgbClr val="611515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611515"/>
                </a:solidFill>
                <a:latin typeface="Arial"/>
              </a:rPr>
              <a:t>документов по личному составу – не менее чем в 3-х экземплярах.</a:t>
            </a:r>
            <a:endParaRPr b="0" lang="ru-RU" sz="24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611515"/>
                </a:solidFill>
                <a:uFillTx/>
                <a:latin typeface="Arial"/>
              </a:rPr>
              <a:t>ВАЖНО! </a:t>
            </a:r>
            <a:r>
              <a:rPr b="0" lang="ru-RU" sz="2000" spc="-1" strike="noStrike">
                <a:solidFill>
                  <a:srgbClr val="611515"/>
                </a:solidFill>
                <a:latin typeface="Arial"/>
              </a:rPr>
              <a:t>Описи (годовые разделы описей) дел, документов временного (свыше 10 лет) хранения согласовываются с ЦЭК (ЭК) госоргана, после чего утверждаются руководителем госоргана</a:t>
            </a:r>
            <a:r>
              <a:rPr b="0" lang="ru-RU" sz="2400" spc="-1" strike="noStrike">
                <a:solidFill>
                  <a:srgbClr val="611515"/>
                </a:solidFill>
                <a:latin typeface="Arial"/>
              </a:rPr>
              <a:t>. </a:t>
            </a:r>
            <a:endParaRPr b="0" lang="ru-RU" sz="24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158" name="Овал 3"/>
          <p:cNvSpPr/>
          <p:nvPr/>
        </p:nvSpPr>
        <p:spPr>
          <a:xfrm>
            <a:off x="0" y="5093640"/>
            <a:ext cx="205992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9640" y="0"/>
            <a:ext cx="788400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равочный аппарат к описи дел</a:t>
            </a:r>
            <a:endParaRPr b="0" lang="ru-RU" sz="32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43120" y="969840"/>
            <a:ext cx="7076880" cy="3754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611515"/>
                </a:solidFill>
                <a:latin typeface="Arial"/>
              </a:rPr>
              <a:t>В состав справочного аппарата к описи входят: </a:t>
            </a:r>
            <a:r>
              <a:rPr b="1" lang="ru-RU" sz="2800" spc="-1" strike="noStrike">
                <a:solidFill>
                  <a:srgbClr val="611515"/>
                </a:solidFill>
                <a:latin typeface="Arial"/>
              </a:rPr>
              <a:t>титульный лист, содержание (оглавление), список сокращений, указатели к описи (предметный, именной, географический).</a:t>
            </a:r>
            <a:endParaRPr b="0" lang="ru-RU" sz="2800" spc="-1" strike="noStrike">
              <a:solidFill>
                <a:srgbClr val="611515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611515"/>
                </a:solidFill>
                <a:latin typeface="Arial"/>
              </a:rPr>
              <a:t>Состав справочного аппарата зависит от срока хранения включенных в нее документов и их видов. </a:t>
            </a:r>
            <a:endParaRPr b="0" lang="ru-RU" sz="28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161" name="Овал 3"/>
          <p:cNvSpPr/>
          <p:nvPr/>
        </p:nvSpPr>
        <p:spPr>
          <a:xfrm>
            <a:off x="0" y="5093640"/>
            <a:ext cx="205992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2"/>
          <p:cNvSpPr/>
          <p:nvPr/>
        </p:nvSpPr>
        <p:spPr>
          <a:xfrm>
            <a:off x="2123640" y="4869000"/>
            <a:ext cx="6768360" cy="18000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300a0a"/>
                </a:solidFill>
                <a:latin typeface="Arial"/>
                <a:ea typeface="Calibri"/>
              </a:rPr>
              <a:t>К описям дел, документов постоянного хранения и по личному составу составляются титульный лист, предисловие, оглавление, при необходимости - список сокращений, указа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4"/>
          <p:cNvSpPr/>
          <p:nvPr/>
        </p:nvSpPr>
        <p:spPr>
          <a:xfrm>
            <a:off x="5940000" y="836640"/>
            <a:ext cx="3203640" cy="58323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Титульный лист </a:t>
            </a:r>
            <a:endParaRPr b="0" lang="ru-RU" sz="29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43120" y="836640"/>
            <a:ext cx="4196880" cy="583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На титульном листе описи указываются: полное наименование государственного (муниципального) архива, последнее полное наименование госоргана, соответствующее названию его архивного фонда, номер архивного фонда, номер и название описи, крайние даты внесенных в опись единиц хранения. 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Если название госоргана изменялось, на титульном листе (в случае необходимости – на дополнительном листе) под последним наименованием госоргана указываются в скобках все ее переименования в историческом (хронологической) последовательности за период, соответствующим крайним датам единиц хранения, включенных в опись. 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pic>
        <p:nvPicPr>
          <p:cNvPr id="166" name="Рисунок 3" descr=""/>
          <p:cNvPicPr/>
          <p:nvPr/>
        </p:nvPicPr>
        <p:blipFill>
          <a:blip r:embed="rId1"/>
          <a:stretch/>
        </p:blipFill>
        <p:spPr>
          <a:xfrm>
            <a:off x="6084000" y="1196640"/>
            <a:ext cx="3059640" cy="4752000"/>
          </a:xfrm>
          <a:prstGeom prst="rect">
            <a:avLst/>
          </a:prstGeom>
          <a:ln w="0">
            <a:solidFill>
              <a:srgbClr val="611515">
                <a:lumMod val="60000"/>
                <a:lumOff val="40000"/>
              </a:srgbClr>
            </a:solidFill>
          </a:ln>
        </p:spPr>
      </p:pic>
      <p:sp>
        <p:nvSpPr>
          <p:cNvPr id="167" name="Овал 5"/>
          <p:cNvSpPr/>
          <p:nvPr/>
        </p:nvSpPr>
        <p:spPr>
          <a:xfrm>
            <a:off x="0" y="5093640"/>
            <a:ext cx="205992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112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тья 23 Федерального закона № 125-ФЗ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б архивном деле в Российской Федерации»</a:t>
            </a:r>
            <a:br>
              <a:rPr sz="2000"/>
            </a:br>
            <a:endParaRPr b="0" lang="ru-RU" sz="20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1835640" y="1196640"/>
            <a:ext cx="7128360" cy="518148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300a0a"/>
                </a:solidFill>
                <a:latin typeface="Arial"/>
              </a:rPr>
              <a:t>4. При реорганизации государственных органов архивные документы в упорядоченном состоянии передаются правопреемникам реорганизуемых государственных орга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300a0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00a0a"/>
                </a:solidFill>
                <a:latin typeface="Arial"/>
              </a:rPr>
              <a:t>8. При ликвидации государственных органов, органов местного самоуправления, государственных и муниципальных организаций включенные в состав Архивного фонда Российской Федерации документы, документы по личному составу, а также архивные документы, сроки временного хранения которых не истекли, в упорядоченном состоянии поступают на хранение в соответствующий государственный или муниципальный архив.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дисловие к описи </a:t>
            </a:r>
            <a:endParaRPr b="0" lang="ru-RU" sz="32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63640" y="692640"/>
            <a:ext cx="3332520" cy="5688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611515"/>
                </a:solidFill>
                <a:latin typeface="Arial"/>
              </a:rPr>
              <a:t>В предисловии к описи кратко излагаются переименования госоргана в исторической (хронологической) последовательности за период, соответствующий крайним датам единиц хранения, включенных в опись. </a:t>
            </a:r>
            <a:endParaRPr b="0" lang="ru-RU" sz="22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200" spc="-1" strike="noStrike">
              <a:solidFill>
                <a:srgbClr val="611515"/>
              </a:solidFill>
              <a:latin typeface="Arial Narrow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611515"/>
                </a:solidFill>
                <a:latin typeface="Arial"/>
              </a:rPr>
              <a:t>Предисловие подписывается составителем с указанием должности и даты составления</a:t>
            </a: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. </a:t>
            </a: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611515"/>
              </a:solidFill>
              <a:latin typeface="Arial Narrow"/>
            </a:endParaRPr>
          </a:p>
        </p:txBody>
      </p:sp>
      <p:pic>
        <p:nvPicPr>
          <p:cNvPr id="170" name="Рисунок 5" descr=""/>
          <p:cNvPicPr/>
          <p:nvPr/>
        </p:nvPicPr>
        <p:blipFill>
          <a:blip r:embed="rId1"/>
          <a:stretch/>
        </p:blipFill>
        <p:spPr>
          <a:xfrm>
            <a:off x="5220000" y="692640"/>
            <a:ext cx="3807360" cy="5616360"/>
          </a:xfrm>
          <a:prstGeom prst="rect">
            <a:avLst/>
          </a:prstGeom>
          <a:ln w="0">
            <a:noFill/>
          </a:ln>
        </p:spPr>
      </p:pic>
      <p:sp>
        <p:nvSpPr>
          <p:cNvPr id="171" name="Овал 4"/>
          <p:cNvSpPr/>
          <p:nvPr/>
        </p:nvSpPr>
        <p:spPr>
          <a:xfrm>
            <a:off x="0" y="5093640"/>
            <a:ext cx="205992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7164000" cy="1340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br>
              <a:rPr sz="16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АЧА ДОКУМЕНТОВ ПРИ РЕ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ЛИКВИДАЦИИ ГОСОРГАНА</a:t>
            </a:r>
            <a:br>
              <a:rPr sz="1800"/>
            </a:b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73" name="Прямоугольник 5"/>
          <p:cNvSpPr/>
          <p:nvPr/>
        </p:nvSpPr>
        <p:spPr>
          <a:xfrm>
            <a:off x="2087280" y="1412640"/>
            <a:ext cx="7056360" cy="393012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300a0a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При реорганизации или ликвидации госоргана передача и дальнейшее использование документов реорганизуемого или ликвидируемого госоргана осуществляется в соответствии с законодательством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300a0a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Передача документов ликвидируемого госоргана входит в обязанность комиссии, образованной для передачи дел и иму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300a0a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При ликвидации госорганов - источников комплектования государственных (муниципальных) архивов в состав ликвидационной комиссии включается представитель государственного (муниципального) арх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4"/>
          <p:cNvSpPr/>
          <p:nvPr/>
        </p:nvSpPr>
        <p:spPr>
          <a:xfrm>
            <a:off x="0" y="4653000"/>
            <a:ext cx="2051280" cy="177228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ы 7.1-7.2 Пра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6220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справка </a:t>
            </a:r>
            <a:endParaRPr b="0" lang="ru-RU" sz="2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79640" y="764640"/>
            <a:ext cx="7164000" cy="609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•"/>
            </a:pPr>
            <a:r>
              <a:rPr b="1" lang="ru-RU" sz="2000" spc="-1" strike="noStrike" u="sng">
                <a:solidFill>
                  <a:srgbClr val="611515"/>
                </a:solidFill>
                <a:uFillTx/>
                <a:latin typeface="Arial Narrow"/>
              </a:rPr>
              <a:t>Историческая справка к фонду состоит из трех разделов: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 Narrow"/>
              </a:rPr>
              <a:t>-   история фондобразователя, отражающая историю госоргана со ссылками на соответствующие законодательные и нормативные акты (дата образования, переименования, реорганизации, ликвидации, ведомственную принадлежность, структуру и функции, их изменение, название госоргана-предшественника);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 Narrow"/>
              </a:rPr>
              <a:t>-   история фонда (объем, крайние даты документов, степень их сохранности, даты передачи документов на постоянное хранение); 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11515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 Narrow"/>
              </a:rPr>
              <a:t>Характеристики документов фонда (разновидности документов, особенности формирования единиц хранения и их систематизация, наличие документов, выходящих за хронологические границы деятельности госоргана (фондообразователя), состав справочного аппарата к фонду, место хранения документов по личному составу).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611515"/>
                </a:solidFill>
                <a:latin typeface="Arial Narrow"/>
              </a:rPr>
              <a:t>Историческая справка к фонд составляется в двух экземплярах, один- хранится в деле фонда, второй – передается в государственный (муниципальный) архив. </a:t>
            </a:r>
            <a:endParaRPr b="0" lang="ru-RU" sz="2000" spc="-1" strike="noStrike">
              <a:solidFill>
                <a:srgbClr val="611515"/>
              </a:solidFill>
              <a:latin typeface="Arial Narrow"/>
            </a:endParaRPr>
          </a:p>
        </p:txBody>
      </p:sp>
      <p:sp>
        <p:nvSpPr>
          <p:cNvPr id="177" name="Овал 4"/>
          <p:cNvSpPr/>
          <p:nvPr/>
        </p:nvSpPr>
        <p:spPr>
          <a:xfrm>
            <a:off x="0" y="5093640"/>
            <a:ext cx="205992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</a:t>
            </a:r>
            <a:r>
              <a:rPr b="1" lang="en-US" sz="1800" spc="-1" strike="noStrike">
                <a:solidFill>
                  <a:schemeClr val="lt1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7812000" cy="1268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Свердловской области от 25 марта 2005 года № 5-ОЗ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б архивном деле в Свердловской области»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асть 3 Статья 17 </a:t>
            </a:r>
            <a:endParaRPr b="0" lang="ru-RU" sz="20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051640" y="1340640"/>
            <a:ext cx="6768360" cy="475308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300a0a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Органы государственной власти Свердловской области, иные государственные органы Свердловской области (далее – госорганы) в соответствии с федеральным законодательством обеспечивают отбор, подготовку и передачу в упорядоченном состоянии документов Архивного фонда Российской Федер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на постоянное хранение в государственные архи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Свердловской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300a0a"/>
              </a:buClr>
              <a:buFont typeface="Wingdings" charset="2"/>
              <a:buChar char=""/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В соответствии с федеральным законом работы, связанные с отбором, подготовкой и передачей архивных документов на постоянное хранение, в том числе с их упорядочением и транспортировкой, выполняются за счет средств государственной власти Свердловской области, иные государственные органы Свердловской области, передающих докуме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3640" y="0"/>
            <a:ext cx="7740000" cy="1268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Свердловской области от 25 марта 2005 года № 5-ОЗ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б архивном деле в Свердловской области»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асть 3 Статья 17 </a:t>
            </a:r>
            <a:br>
              <a:rPr sz="2000"/>
            </a:br>
            <a:endParaRPr b="0" lang="ru-RU" sz="20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835640" y="1412640"/>
            <a:ext cx="7128360" cy="484596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300a0a"/>
              </a:buClr>
              <a:buFont typeface="Wingdings" charset="2"/>
              <a:buChar char=""/>
            </a:pPr>
            <a:r>
              <a:rPr b="0" lang="ru-RU" sz="2000" spc="-1" strike="noStrike">
                <a:solidFill>
                  <a:srgbClr val="300a0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0a0a"/>
                </a:solidFill>
                <a:latin typeface="Arial"/>
              </a:rPr>
              <a:t>Органы государственной власти Свердловской области, иные государственные органы Свердловской области, государственные унитарные предприятия Свердловской области, государственные учреждения Свердловской области в соответствии с федеральным законом при ликвидации передают </a:t>
            </a:r>
            <a:r>
              <a:rPr b="1" lang="ru-RU" sz="2000" spc="-1" strike="noStrike">
                <a:solidFill>
                  <a:srgbClr val="300a0a"/>
                </a:solidFill>
                <a:latin typeface="Arial"/>
              </a:rPr>
              <a:t>в упорядоченном состоянии </a:t>
            </a:r>
            <a:r>
              <a:rPr b="0" lang="ru-RU" sz="2000" spc="-1" strike="noStrike">
                <a:solidFill>
                  <a:srgbClr val="300a0a"/>
                </a:solidFill>
                <a:latin typeface="Arial"/>
              </a:rPr>
              <a:t>на хранение в государственные архивы Свердловской области </a:t>
            </a:r>
            <a:r>
              <a:rPr b="1" lang="ru-RU" sz="2000" spc="-1" strike="noStrike">
                <a:solidFill>
                  <a:srgbClr val="300a0a"/>
                </a:solidFill>
                <a:latin typeface="Arial"/>
              </a:rPr>
              <a:t>документы, включенные в состав Архивного фонда Российской Федерации, документы по личному составу, а также архивные документы, сроки временного хранения которых не истекли. 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61151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7380000" cy="148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АЧА ДОКУМЕНТОВ  ГОСОРГАНОВ НА ХРАН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ОСУДАРСТВЕННЫЙ (МУНИЦИПАЛЬНЫЙ) АРХ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1800"/>
            </a:br>
            <a:br>
              <a:rPr sz="1800"/>
            </a:b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470240"/>
            <a:ext cx="3609360" cy="5387400"/>
          </a:xfrm>
          <a:prstGeom prst="rect">
            <a:avLst/>
          </a:prstGeom>
          <a:ln>
            <a:solidFill>
              <a:srgbClr val="ea157a"/>
            </a:solidFill>
          </a:ln>
        </p:spPr>
      </p:pic>
      <p:sp>
        <p:nvSpPr>
          <p:cNvPr id="55" name="Овал 5"/>
          <p:cNvSpPr/>
          <p:nvPr/>
        </p:nvSpPr>
        <p:spPr>
          <a:xfrm>
            <a:off x="251640" y="4869000"/>
            <a:ext cx="1907280" cy="177228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ы 6.1-6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3636000" y="1484640"/>
            <a:ext cx="5507640" cy="502740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Документы Архивного фонда Российской Федерации, образовавшиеся в органах государственной власти Свердловской области, иных государственных органах Свердловской области (далее – госорганы) - источниках комплектования государственных (муниципальных) архивов, по истечении сро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их временного хранения в архиве госоргана * передаются на постоянное хра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в соответствующий государственный (муниципальный) арх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2339640" y="5288400"/>
            <a:ext cx="6804000" cy="154980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feb80a"/>
            </a:solidFill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chemeClr val="dk1"/>
                </a:solidFill>
                <a:latin typeface="Calibri"/>
              </a:rPr>
              <a:t>*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Для включенных на основании экспертизы ценности в состав Архивного фонда Российской Федерации документов органов государственной власти, в соответствии с частью 2 статьи 22  Федерального закона № 125-ФЗ определен временный срок хранения до их передачи на постоянное хранение в государственные архивы  –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10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112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АЧА ДОКУМЕНТОВ  ГОСОРГАНОВ НА ХРАН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ОСУДАРСТВЕННЫЙ (МУНИЦИПАЛЬНЫЙ) АРХИВ</a:t>
            </a: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971720" y="1340640"/>
            <a:ext cx="6992280" cy="454104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300a0a"/>
                </a:solidFill>
                <a:latin typeface="Arial"/>
              </a:rPr>
              <a:t>Документы передаются на постоянное хранение в упорядоченном состоянии с соответствующ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300a0a"/>
                </a:solidFill>
                <a:latin typeface="Arial"/>
              </a:rPr>
              <a:t>научно-справочным аппаратом (</a:t>
            </a:r>
            <a:r>
              <a:rPr b="1" lang="ru-RU" sz="2000" spc="-1" strike="noStrike">
                <a:solidFill>
                  <a:srgbClr val="300a0a"/>
                </a:solidFill>
                <a:latin typeface="Arial"/>
              </a:rPr>
              <a:t>НСА</a:t>
            </a:r>
            <a:r>
              <a:rPr b="0" lang="ru-RU" sz="2000" spc="-1" strike="noStrike">
                <a:solidFill>
                  <a:srgbClr val="300a0a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300a0a"/>
                </a:solidFill>
                <a:latin typeface="Arial"/>
              </a:rPr>
              <a:t>В  госорганах-источниках комплектования государственных (муниципальных) архивов все работы, связанные с отбором, подготовкой и передачей документов на постоянное хранение, в том числе с их упорядочением и транспортировкой, выполняются за счет средств госорганов, передающих доку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5"/>
          <p:cNvSpPr/>
          <p:nvPr/>
        </p:nvSpPr>
        <p:spPr>
          <a:xfrm>
            <a:off x="0" y="4797000"/>
            <a:ext cx="1907280" cy="177228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ы 6.1-6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Users\mduharina\Documents\Семинары 2018\Семинар в Управлении\картинки\описи\1 (2).jpg"/>
          <p:cNvPicPr/>
          <p:nvPr/>
        </p:nvPicPr>
        <p:blipFill>
          <a:blip r:embed="rId1"/>
          <a:stretch/>
        </p:blipFill>
        <p:spPr>
          <a:xfrm>
            <a:off x="5652000" y="2169000"/>
            <a:ext cx="3259080" cy="4688640"/>
          </a:xfrm>
          <a:prstGeom prst="rect">
            <a:avLst/>
          </a:prstGeom>
          <a:ln>
            <a:solidFill>
              <a:srgbClr val="ea157a"/>
            </a:solidFill>
          </a:ln>
        </p:spPr>
      </p:pic>
      <p:sp>
        <p:nvSpPr>
          <p:cNvPr id="62" name="TextBox 3"/>
          <p:cNvSpPr/>
          <p:nvPr/>
        </p:nvSpPr>
        <p:spPr>
          <a:xfrm>
            <a:off x="1971720" y="1268640"/>
            <a:ext cx="5120280" cy="338148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Документы передаются в государственный (муниципальный) архив по описям дел, документов постоянного срока хранения, утвержденным экспертно-проверочной комиссией уполномоченного органа исполнительной власти субъекта Российской Федерации (</a:t>
            </a:r>
            <a:r>
              <a:rPr b="1" lang="ru-RU" sz="1800" spc="-1" strike="noStrike">
                <a:solidFill>
                  <a:srgbClr val="300a0a"/>
                </a:solidFill>
                <a:latin typeface="Arial"/>
              </a:rPr>
              <a:t>ЭПК</a:t>
            </a: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112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АЧА ДОКУМЕНТОВ  ГОСОРГАНОВ НА ХРАН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ОСУДАРСТВЕННЫЙ (МУНИЦИПАЛЬНЫЙ) АРХИВ</a:t>
            </a: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64" name="Овал 4"/>
          <p:cNvSpPr/>
          <p:nvPr/>
        </p:nvSpPr>
        <p:spPr>
          <a:xfrm>
            <a:off x="0" y="479700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6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3120" y="0"/>
            <a:ext cx="7400520" cy="1124280"/>
          </a:xfrm>
          <a:prstGeom prst="rect">
            <a:avLst/>
          </a:prstGeom>
          <a:solidFill>
            <a:srgbClr val="a92b1d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АЧА ДОКУМЕНТОВ  ГОСОРГАНОВ НА ХРАН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ОСУДАРСТВЕННЫЙ (МУНИЦИПАЛЬНЫЙ) АРХИВ</a:t>
            </a:r>
            <a:br>
              <a:rPr sz="1800"/>
            </a:br>
            <a:endParaRPr b="0" lang="ru-RU" sz="1800" spc="-1" strike="noStrike">
              <a:solidFill>
                <a:srgbClr val="611515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1971720" y="1268640"/>
            <a:ext cx="699228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Перед передачей документов на постоянное хранение совместно с представителем государственного (муниципального) архива проводится проверка правильности описания и оформления дел, физического и санитарно-гигиенического состояния докум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При обнаружении дефектов составляется акт; устранение обнаруженных дефектов проводится силами госорг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Передача дел проводится в государственном (муниципальном) архиве </a:t>
            </a:r>
            <a:r>
              <a:rPr b="1" lang="ru-RU" sz="1800" spc="-1" strike="noStrike" u="sng">
                <a:solidFill>
                  <a:srgbClr val="300a0a"/>
                </a:solidFill>
                <a:uFillTx/>
                <a:latin typeface="Arial"/>
              </a:rPr>
              <a:t>поединично</a:t>
            </a: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На всех четырех экземплярах описей дел, документов проставляются отметки о приеме д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300a0a"/>
                </a:solidFill>
                <a:latin typeface="Arial"/>
              </a:rPr>
              <a:t>При первой передаче документов в государственный (муниципальный) архив передается историческая справка к фонду. При последующих передачах документов передается дополнение к исторической справ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4"/>
          <p:cNvSpPr/>
          <p:nvPr/>
        </p:nvSpPr>
        <p:spPr>
          <a:xfrm>
            <a:off x="152280" y="4949640"/>
            <a:ext cx="1907280" cy="1708920"/>
          </a:xfrm>
          <a:prstGeom prst="ellipse">
            <a:avLst/>
          </a:prstGeom>
          <a:solidFill>
            <a:schemeClr val="tx1">
              <a:lumMod val="60000"/>
              <a:lumOff val="40000"/>
            </a:schemeClr>
          </a:solidFill>
          <a:ln>
            <a:solidFill>
              <a:srgbClr val="5d9a2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ункт 6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Arial"/>
              </a:rPr>
              <a:t>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резентация архивное дело - 2017">
  <a:themeElements>
    <a:clrScheme name="Другая 11">
      <a:dk1>
        <a:srgbClr val="611515"/>
      </a:dk1>
      <a:lt1>
        <a:srgbClr val="ffffff"/>
      </a:lt1>
      <a:dk2>
        <a:srgbClr val="8b353b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1150</TotalTime>
  <Application>LibreOffice/7.4.7.2$Linux_X86_64 LibreOffice_project/40$Build-2</Application>
  <AppVersion>15.0000</AppVersion>
  <Words>2408</Words>
  <Paragraphs>26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7T03:36:58Z</dcterms:created>
  <dc:creator>Мама</dc:creator>
  <dc:description/>
  <dc:language>en-US</dc:language>
  <cp:lastModifiedBy>t.stafeeva</cp:lastModifiedBy>
  <dcterms:modified xsi:type="dcterms:W3CDTF">2020-06-05T07:44:44Z</dcterms:modified>
  <cp:revision>172</cp:revision>
  <dc:subject/>
  <dc:title>Подготовка и передача дел в ведомственный архи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2</vt:r8>
  </property>
</Properties>
</file>