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71E618-0BE0-42AC-AA06-5DE8439DA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E40577-E76E-4EFD-85AB-A0C5BC07EF6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94D3-585A-4302-A575-3896A857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6F94-B9E0-4D0C-8F68-98068055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FD5E-7123-4AFD-9589-F0BBF67A7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38C5-1C00-45FD-AA1E-5D292A9CD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4E1A-D77F-4893-B765-A20B8D3B6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1715-AAB2-4836-8131-7D184BD2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503E-4718-4C95-9EBA-B950DF46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BB37-3A11-4719-8E32-6B45C7A9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3B95-3A5F-422E-B0EF-C380B49E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17CA-1387-4EBB-AC4F-8E6FBA5C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52A0-8A49-4FE3-B1AD-15421512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B734-4DD8-4336-A5CF-B547C4AB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7B28-5D58-402D-AE88-0BD8E9D9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78E0-DDC6-4E84-B0A8-F88BE8D6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6F3B-47F6-4389-A83F-EB4533DB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48B4-CA3F-4F8F-A5AB-1218F1FE1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87F1-EE4E-4BFF-8A90-08C3B443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DB42-F903-4103-B782-26F24A26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A7F7-8FED-4158-8DBD-B70B1E40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946A-9B49-4E54-B4A1-B5525987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944C-535C-4CCF-9079-8E839E39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A1DA-CA33-4A62-A231-5273BC0E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D044-1CAC-44C3-83EC-B97BF75C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9E30-6A14-410D-804A-1E4A3682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4929" sy="84929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 hidden="1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 hidden="1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 hidden="1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 hidden="1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 hidden="1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Прямоугольник 7" hidden="1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e66c7d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Прямая соединительная линия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e66c7d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Овал 11" hidden="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Овал 14" hidden="1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e66c7d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Прямоугольник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Прямоугольник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Прямая соединительная линия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e66c7d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Прямоугольник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e66c7d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Овал 12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" name="Овал 13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e66c7d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sldNum" idx="3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b35461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988A1D1-983E-4D18-8CA7-8396D7CACC12}" type="slidenum">
              <a:rPr b="0" lang="ru-RU" sz="1600" spc="-1" strike="noStrike">
                <a:solidFill>
                  <a:srgbClr val="b35461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chemeClr val="accent1"/>
                </a:solidFill>
                <a:latin typeface="Georgia"/>
              </a:rPr>
              <a:t>Образец заголовка</a:t>
            </a:r>
            <a:endParaRPr b="0" lang="ru-RU" sz="4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5a6378"/>
                </a:solidFill>
                <a:latin typeface="Georgia"/>
              </a:rPr>
              <a:t>Third Outline Level</a:t>
            </a:r>
            <a:endParaRPr b="0" lang="ru-RU" sz="2000" spc="-1" strike="noStrike">
              <a:solidFill>
                <a:srgbClr val="5a6378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4929" sy="84929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Прямоугольник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e66c7d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Прямая соединительная линия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e66c7d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Овал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Овал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e66c7d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ca5f6e"/>
                </a:solidFill>
                <a:latin typeface="Georgia"/>
              </a:rPr>
              <a:t>Образец заголовка</a:t>
            </a:r>
            <a:endParaRPr b="0" lang="ru-RU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4361760" y="102636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ca5f6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D7EE426-9E49-4FBE-AAC7-1C643C84C0F8}" type="slidenum">
              <a:rPr b="0" lang="ru-RU" sz="1600" spc="-1" strike="noStrike">
                <a:solidFill>
                  <a:srgbClr val="ca5f6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60b5cc"/>
              </a:buClr>
              <a:buSzPct val="70000"/>
              <a:buFont typeface="Wingdings" charset="2"/>
              <a:buChar char=""/>
            </a:pPr>
            <a:r>
              <a:rPr b="0" lang="ru-RU" sz="2200" spc="-1" strike="noStrike">
                <a:solidFill>
                  <a:srgbClr val="5a6378"/>
                </a:solidFill>
                <a:latin typeface="Georgia"/>
              </a:rPr>
              <a:t>Второй уровень</a:t>
            </a: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e66c7d"/>
              </a:buClr>
              <a:buSzPct val="75000"/>
              <a:buFont typeface="Wingdings 2" charset="2"/>
              <a:buChar char="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Третий уровень</a:t>
            </a:r>
            <a:endParaRPr b="0" lang="ru-RU" sz="2000" spc="-1" strike="noStrike">
              <a:solidFill>
                <a:srgbClr val="5a6378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6bb76d"/>
              </a:buClr>
              <a:buSzPct val="70000"/>
              <a:buFont typeface="Wingdings" charset="2"/>
              <a:buChar char=""/>
            </a:pPr>
            <a:r>
              <a:rPr b="0" lang="ru-RU" sz="2000" spc="-1" strike="noStrike">
                <a:solidFill>
                  <a:srgbClr val="5a6378"/>
                </a:solidFill>
                <a:latin typeface="Georg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e88651"/>
              </a:buClr>
              <a:buFont typeface="Symbol" charset="2"/>
              <a:buChar char="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4"/>
          <p:cNvSpPr/>
          <p:nvPr/>
        </p:nvSpPr>
        <p:spPr>
          <a:xfrm>
            <a:off x="179640" y="332640"/>
            <a:ext cx="8784720" cy="432000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b17f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Подготовка электронных дел для передачи в архи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государственного орган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Порядо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формирования и оформления электронных д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7" descr="komp-dok.jpg"/>
          <p:cNvPicPr/>
          <p:nvPr/>
        </p:nvPicPr>
        <p:blipFill>
          <a:blip r:embed="rId1"/>
          <a:stretch/>
        </p:blipFill>
        <p:spPr>
          <a:xfrm>
            <a:off x="5724000" y="4365000"/>
            <a:ext cx="3240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3640" y="260640"/>
            <a:ext cx="8496720" cy="7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рхивный шифр электронных документов</a:t>
            </a:r>
            <a:endParaRPr b="0" lang="ru-RU" sz="2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6" name="Рисунок 6" descr="2images.jpg"/>
          <p:cNvPicPr/>
          <p:nvPr/>
        </p:nvPicPr>
        <p:blipFill>
          <a:blip r:embed="rId1"/>
          <a:stretch/>
        </p:blipFill>
        <p:spPr>
          <a:xfrm>
            <a:off x="6837480" y="1340640"/>
            <a:ext cx="2306160" cy="162828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4"/>
          <p:cNvSpPr/>
          <p:nvPr/>
        </p:nvSpPr>
        <p:spPr>
          <a:xfrm>
            <a:off x="395640" y="1772640"/>
            <a:ext cx="8496720" cy="39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вный шиф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ых документ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имых на обособленных электронных носителях, указывается на вкладыше, вложенном в футляр носите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вный шифр электронных документов, хранимых в информационной системе архива, является обязательным элементом описания контейнера электронного докум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7640" y="0"/>
            <a:ext cx="7858800" cy="98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дача электронных документов в архив государственного органа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8208720" cy="48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ctr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ча электронных документов в архив организации производится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ании описей электронных дел, документов структурных подразделений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информационно-телекоммуникационной сети (при наличии в архиве организации информационной системы) или на физически обособленных материальных носителях, которые представляются 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нтичных экземплярах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50" name="Рисунок 7" descr="4images.jpg"/>
          <p:cNvPicPr/>
          <p:nvPr/>
        </p:nvPicPr>
        <p:blipFill>
          <a:blip r:embed="rId1"/>
          <a:stretch/>
        </p:blipFill>
        <p:spPr>
          <a:xfrm>
            <a:off x="251640" y="692640"/>
            <a:ext cx="2259000" cy="158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362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дача электронных документов в архив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48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электронных документов к передаче в архив государственного орга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в соответствии с пунктом 4.34 Правил 2015 г. структурным подразделением государственного органа - пользователем соответствующей информационной системы совместно     со Службой делопроизводства и подразделением (работником), обеспечивающим функционирование информационной системы.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53" name="Рисунок 4" descr="dghy77qxuaapq4h.jpg"/>
          <p:cNvPicPr/>
          <p:nvPr/>
        </p:nvPicPr>
        <p:blipFill>
          <a:blip r:embed="rId1"/>
          <a:stretch/>
        </p:blipFill>
        <p:spPr>
          <a:xfrm>
            <a:off x="2699640" y="4725000"/>
            <a:ext cx="3600000" cy="152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76640"/>
            <a:ext cx="8229240" cy="7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иси электронных дел, документов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электронных дел для передачи в архив государственного органа предусматривает оформление электронных дел, составление описи электронных дел, документов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оловок электронного дела переносится на обложку дела (электронного дела) из номенклатуры дел государственного органа. Заголовок должен соответствовать содержанию документов в деле.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ьные описи составляются на единицы хранения электронных документов постоянного хранения; временных (свыше 10 лет) сроков хранения, в том числе по личному составу.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1331640" y="0"/>
            <a:ext cx="6578280" cy="6884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Рисунок 3" descr="scan 5.jpg"/>
          <p:cNvPicPr/>
          <p:nvPr/>
        </p:nvPicPr>
        <p:blipFill>
          <a:blip r:embed="rId1"/>
          <a:stretch/>
        </p:blipFill>
        <p:spPr>
          <a:xfrm>
            <a:off x="2100240" y="0"/>
            <a:ext cx="4943160" cy="6857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1475640" y="-27000"/>
            <a:ext cx="6511680" cy="6884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362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дача электронных документов в архив государственного органа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48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244800" indent="-244800">
              <a:lnSpc>
                <a:spcPct val="100000"/>
              </a:lnSpc>
              <a:spcBef>
                <a:spcPts val="519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 опись электронных дел, документов включается приложение к описи - реестр электронных документов (контейнеров электронных документов), в котором указываются сведения об электронных документах, включенных в каждое электронное дело.</a:t>
            </a:r>
            <a:endParaRPr b="0" lang="ru-RU" sz="2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519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писи дел структурного подразделения изготавливаются в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2-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х экземплярах на бумажном носителе, подписываются руководителем подразделения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и руководителем Службы делопроизводства.</a:t>
            </a:r>
            <a:endParaRPr b="0" lang="ru-RU" sz="2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519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Реестр электронных документов, являющийся приложением к описи электронных документов, подписывается составителем реестра с указанием должности, инициалов, фамилии.</a:t>
            </a:r>
            <a:endParaRPr b="0" lang="ru-RU" sz="2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36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Основные процедуры работы с  электронными документами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при подготовке их к передаче в архив государственного органа:</a:t>
            </a:r>
            <a:br>
              <a:rPr sz="3200"/>
            </a:b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7640" y="1412640"/>
            <a:ext cx="878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еобразование текстовых электронных документов в формат архивного хранения PDF/A-1, если электронный документ был создан или включен в систему в ином формате;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формирование в информационной системе описей электронных дел, документов структурных подразделений;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формирование в информационной системе государственного органа контейнеров электронных документов, включающих: контент и метаданные электронного документа, файлы электронных подписей, визуализированную копию текстового электронного документа в формате PDF/A-1;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формирование в информационной системе государственного органа дел, являющихся совокупностью контейнеров электронных документов или контейнером электронного документа;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36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Основные процедуры работы с  электронными документами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при подготовке их к передаче в архив государственного органа:</a:t>
            </a:r>
            <a:br>
              <a:rPr sz="3200"/>
            </a:b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9640" y="1412640"/>
            <a:ext cx="8784720" cy="47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играция электронных документов на физически обособленные материальные носители, если документы передаются в архив государственного органа не по информационно-коммуникационным каналам;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оверка воспроизводимости электронных документов;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оверка электронных документов на наличие вредоносных компьютерных программ;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формирование транспортного контейнера, содержащего электронные дела, включенные в опись электронных дел, документов структурного подразделения (опись дел постоянного хранения, временных (свыше 10 лет) сроков хранения, дел по личному составу)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362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2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дача электронных документов в архив государственного органа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48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48040" indent="-248040">
              <a:lnSpc>
                <a:spcPct val="120000"/>
              </a:lnSpc>
              <a:spcBef>
                <a:spcPts val="541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 электронных документов в архив организации по информационно-телекоммуникационной сети или на физически обособленных носителях оформляется составлением итоговой записи в конце описи электронных дел, документов, в которой цифрами и прописью указывается количество фактически принятых в архив электронных дел и электронных документов. 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lnSpc>
                <a:spcPct val="120000"/>
              </a:lnSpc>
              <a:spcBef>
                <a:spcPts val="541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ая запись подтверждается подписями сотрудника архива и сотрудника структурного подразделения, передавшего электронные дела и документы. 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lnSpc>
                <a:spcPct val="120000"/>
              </a:lnSpc>
              <a:spcBef>
                <a:spcPts val="541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иеме на архивное хранение электронные дела заверяются электронной подписью руководителя организации или уполномоченного им должностного лица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3640" y="332640"/>
            <a:ext cx="8002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рмативные правовые акты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45000"/>
            <a:ext cx="8229240" cy="46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от 22 октября 2004 года № 125-ФЗ   «Об архивном деле в Российской Федерации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от 27 июля 2006 г. № 149-ФЗ             «Об информации, информационных технологиях                   и о защите информации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от 06 апреля 2011 года 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-Ф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«Об электронной подписи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от 22 октября 2004 года № 125-ФЗ          «Об архивном деле в Российской Федерации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Свердловской области от 25 марта 2005 года № 5-ОЗ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архивном деле в Свердловской области»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074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дача электронных документов в архив государственного органа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90000"/>
              </a:lnSpc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приема в архив электронных документов на физически обособленных материальных носителях вкладыши, помещенные в футляр единицы хранения в структурном подразделении, заменяются на вкладыши, оформленные в архиве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90000"/>
              </a:lnSpc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адыш помещается в футляр физически обособленного материального носителя таким образом, чтобы надписи на нем были видны при закрытом футляре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9" name="Рисунок 4" descr="3d-laptop-and-files--isolated-white-background-525498787-5af2043ba18d9e003777a74c.jpg"/>
          <p:cNvPicPr/>
          <p:nvPr/>
        </p:nvPicPr>
        <p:blipFill>
          <a:blip r:embed="rId1"/>
          <a:stretch/>
        </p:blipFill>
        <p:spPr>
          <a:xfrm>
            <a:off x="5796000" y="5013000"/>
            <a:ext cx="33476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дача электронных документов в архив государственного органа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56640"/>
            <a:ext cx="8229240" cy="47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272520" indent="-272520">
              <a:lnSpc>
                <a:spcPct val="100000"/>
              </a:lnSpc>
              <a:spcBef>
                <a:spcPts val="541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кладыше, помещаемом в футляр единицы хранения, оформляемом в архиве, указывается: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72520" indent="-272520">
              <a:lnSpc>
                <a:spcPct val="100000"/>
              </a:lnSpc>
              <a:spcBef>
                <a:spcPts val="541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организации (полное, сокращенное);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72520" indent="-272520">
              <a:lnSpc>
                <a:spcPct val="100000"/>
              </a:lnSpc>
              <a:spcBef>
                <a:spcPts val="541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ер фонда;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72520" indent="-272520">
              <a:lnSpc>
                <a:spcPct val="100000"/>
              </a:lnSpc>
              <a:spcBef>
                <a:spcPts val="541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ер описи электронных дел, документов;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72520" indent="-272520">
              <a:lnSpc>
                <a:spcPct val="100000"/>
              </a:lnSpc>
              <a:spcBef>
                <a:spcPts val="541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ер дела по описи;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72520" indent="-272520">
              <a:lnSpc>
                <a:spcPct val="100000"/>
              </a:lnSpc>
              <a:spcBef>
                <a:spcPts val="541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ка о статусе экземпляра электронных документов:           "Осн." (основной) или "Раб." (рабочий);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72520" indent="-272520">
              <a:lnSpc>
                <a:spcPct val="100000"/>
              </a:lnSpc>
              <a:spcBef>
                <a:spcPts val="541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йние даты документов электронного дела;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72520" indent="-272520">
              <a:lnSpc>
                <a:spcPct val="100000"/>
              </a:lnSpc>
              <a:spcBef>
                <a:spcPts val="541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еобходимости оформляются дополнительные отметки об ограничении доступа к документам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Рисунок 7" descr="kh-why-electronic-records-management-is-important_feat.jpg"/>
          <p:cNvPicPr/>
          <p:nvPr/>
        </p:nvPicPr>
        <p:blipFill>
          <a:blip r:embed="rId1"/>
          <a:stretch/>
        </p:blipFill>
        <p:spPr>
          <a:xfrm>
            <a:off x="0" y="1268640"/>
            <a:ext cx="2627280" cy="15562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32640"/>
            <a:ext cx="8229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700" spc="-1" strike="noStrike">
                <a:solidFill>
                  <a:schemeClr val="accent6">
                    <a:lumMod val="75000"/>
                  </a:schemeClr>
                </a:solidFill>
                <a:latin typeface="Georgia"/>
              </a:rPr>
              <a:t>Система хранения электронных документов архива государственного органа  (СХЭД)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56640"/>
            <a:ext cx="8434800" cy="47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2000"/>
          </a:bodyPr>
          <a:p>
            <a:pPr marL="24264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                                 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Функциональные требования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264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                     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к управлению документами в СХЭД архива 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264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государственного органа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26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264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lnSpc>
                <a:spcPct val="100000"/>
              </a:lnSpc>
              <a:spcBef>
                <a:spcPts val="54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ХЭД должна обеспечивать прием, учет, хранение и использование электронных архивных документов (без предварительного документирования на бумажном носителе), электронных копий документов, подлежащих хранению в архиве государственного органа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lnSpc>
                <a:spcPct val="100000"/>
              </a:lnSpc>
              <a:spcBef>
                <a:spcPts val="54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ХЭД должна обеспечивать включение регистрационно-учетных сведений и других метаданных электронных документов, переданных в архив государственного органа на физически обособленных носителях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264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br>
              <a:rPr sz="2700"/>
            </a:b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Прямоугольник 5"/>
          <p:cNvSpPr/>
          <p:nvPr/>
        </p:nvSpPr>
        <p:spPr>
          <a:xfrm>
            <a:off x="1187640" y="332640"/>
            <a:ext cx="6552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603360"/>
            <a:ext cx="82908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br>
              <a:rPr sz="3200"/>
            </a:br>
            <a:br>
              <a:rPr sz="3200"/>
            </a:br>
            <a:r>
              <a:rPr b="0" lang="ru-RU" sz="2700" spc="-1" strike="noStrike">
                <a:solidFill>
                  <a:schemeClr val="accent6">
                    <a:lumMod val="75000"/>
                  </a:schemeClr>
                </a:solidFill>
                <a:latin typeface="Georgia"/>
              </a:rPr>
              <a:t>СХЭД должна обеспечивать выполнение следующих действий по приему электронных дел:</a:t>
            </a:r>
            <a:br>
              <a:rPr sz="3200"/>
            </a:b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56640"/>
            <a:ext cx="8229240" cy="47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0000"/>
          </a:bodyPr>
          <a:p>
            <a:pPr marL="219240" indent="-219240">
              <a:lnSpc>
                <a:spcPct val="100000"/>
              </a:lnSpc>
              <a:spcBef>
                <a:spcPts val="1599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8000" spc="-1" strike="noStrike">
                <a:solidFill>
                  <a:srgbClr val="000000"/>
                </a:solidFill>
                <a:latin typeface="Georgia"/>
              </a:rPr>
              <a:t>получение электронных дел, документов из СЭД и других информационных систем государственного органа, в которых создаются и хранятся электронные документы;</a:t>
            </a: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599"/>
              </a:spcBef>
              <a:buNone/>
            </a:pP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marL="219240" indent="-219240">
              <a:lnSpc>
                <a:spcPct val="100000"/>
              </a:lnSpc>
              <a:spcBef>
                <a:spcPts val="1599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8000" spc="-1" strike="noStrike">
                <a:solidFill>
                  <a:srgbClr val="000000"/>
                </a:solidFill>
                <a:latin typeface="Georgia"/>
              </a:rPr>
              <a:t>получение из СЭД описей дел;</a:t>
            </a: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599"/>
              </a:spcBef>
              <a:buNone/>
            </a:pP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marL="219240" indent="-219240">
              <a:lnSpc>
                <a:spcPct val="100000"/>
              </a:lnSpc>
              <a:spcBef>
                <a:spcPts val="1599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8000" spc="-1" strike="noStrike">
                <a:solidFill>
                  <a:srgbClr val="000000"/>
                </a:solidFill>
                <a:latin typeface="Georgia"/>
              </a:rPr>
              <a:t>фиксацию факта поступления в СХЭД электронных дел, описей дел;</a:t>
            </a: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599"/>
              </a:spcBef>
              <a:buNone/>
            </a:pP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marL="219240" indent="-219240">
              <a:lnSpc>
                <a:spcPct val="100000"/>
              </a:lnSpc>
              <a:spcBef>
                <a:spcPts val="1599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8000" spc="-1" strike="noStrike">
                <a:solidFill>
                  <a:srgbClr val="000000"/>
                </a:solidFill>
                <a:latin typeface="Georgia"/>
              </a:rPr>
              <a:t>проверку соответствия состава электронных дел, документов описям дел;</a:t>
            </a: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599"/>
              </a:spcBef>
              <a:buNone/>
            </a:pP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marL="219240" indent="-219240">
              <a:lnSpc>
                <a:spcPct val="100000"/>
              </a:lnSpc>
              <a:spcBef>
                <a:spcPts val="1599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8000" spc="-1" strike="noStrike">
                <a:solidFill>
                  <a:srgbClr val="000000"/>
                </a:solidFill>
                <a:latin typeface="Georgia"/>
              </a:rPr>
              <a:t>проверку электронных дел, документов и описей дел, документов на наличие вредоносного программного кода;</a:t>
            </a: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marL="21924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</a:tabLst>
            </a:pP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marL="219240" indent="-219240">
              <a:lnSpc>
                <a:spcPct val="100000"/>
              </a:lnSpc>
              <a:spcBef>
                <a:spcPts val="159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Georgia"/>
              </a:rPr>
              <a:t>проверку электронных подписей электронных дел, документов, переданных на хранение в СХЭД;</a:t>
            </a: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603360"/>
            <a:ext cx="82908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br>
              <a:rPr sz="3200"/>
            </a:br>
            <a:br>
              <a:rPr sz="3200"/>
            </a:br>
            <a:r>
              <a:rPr b="0" lang="ru-RU" sz="2700" spc="-1" strike="noStrike">
                <a:solidFill>
                  <a:schemeClr val="accent6">
                    <a:lumMod val="75000"/>
                  </a:schemeClr>
                </a:solidFill>
                <a:latin typeface="Georgia"/>
              </a:rPr>
              <a:t>СХЭД должна обеспечивать выполнение следующих действий по приему электронных дел:</a:t>
            </a:r>
            <a:br>
              <a:rPr sz="3200"/>
            </a:b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56640"/>
            <a:ext cx="8229240" cy="47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0000"/>
          </a:bodyPr>
          <a:p>
            <a:pPr marL="219240" indent="-219240">
              <a:lnSpc>
                <a:spcPct val="100000"/>
              </a:lnSpc>
              <a:spcBef>
                <a:spcPts val="1599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8000" spc="-1" strike="noStrike">
                <a:solidFill>
                  <a:srgbClr val="000000"/>
                </a:solidFill>
                <a:latin typeface="Georgia"/>
              </a:rPr>
              <a:t>проверку комплектности состава контейнеров электронных документов; проверку наличия в метаданных документа сведений о проверке подлинности усиленной квалифицированной электронной подписи (УКЭП) передаваемого электронного документа на момент его подписания и/или получения;</a:t>
            </a: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599"/>
              </a:spcBef>
              <a:buNone/>
            </a:pP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marL="219240" indent="-219240">
              <a:lnSpc>
                <a:spcPct val="100000"/>
              </a:lnSpc>
              <a:spcBef>
                <a:spcPts val="1599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8000" spc="-1" strike="noStrike">
                <a:solidFill>
                  <a:srgbClr val="000000"/>
                </a:solidFill>
                <a:latin typeface="Georgia"/>
              </a:rPr>
              <a:t>проверку воспроизводимости электронных документов, электронных копий документов, описей дел;</a:t>
            </a: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599"/>
              </a:spcBef>
              <a:buNone/>
            </a:pP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marL="219240" indent="-219240">
              <a:lnSpc>
                <a:spcPct val="100000"/>
              </a:lnSpc>
              <a:spcBef>
                <a:spcPts val="1599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8000" spc="-1" strike="noStrike">
                <a:solidFill>
                  <a:srgbClr val="000000"/>
                </a:solidFill>
                <a:latin typeface="Georgia"/>
              </a:rPr>
              <a:t>формирование уведомления отправителю электронных дел, документов и описей дел, документов о подтверждении приема документов в СХЭД или об отказе в приеме в случае отрицательного результата проверки на соответствие требованиям, установленным настоящим пунктом;</a:t>
            </a: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599"/>
              </a:spcBef>
              <a:buNone/>
            </a:pP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marL="219240" indent="-219240">
              <a:lnSpc>
                <a:spcPct val="100000"/>
              </a:lnSpc>
              <a:spcBef>
                <a:spcPts val="1599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8000" spc="-1" strike="noStrike">
                <a:solidFill>
                  <a:srgbClr val="000000"/>
                </a:solidFill>
                <a:latin typeface="Georgia"/>
              </a:rPr>
              <a:t>заверение принятых на хранение электронных дел, документов электронной подписью уполномоченного лица.</a:t>
            </a: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603360"/>
            <a:ext cx="82908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br>
              <a:rPr sz="3200"/>
            </a:br>
            <a:br>
              <a:rPr sz="3200"/>
            </a:br>
            <a:r>
              <a:rPr b="0" lang="ru-RU" sz="2700" spc="-1" strike="noStrike">
                <a:solidFill>
                  <a:srgbClr val="c00000"/>
                </a:solidFill>
                <a:latin typeface="Georgia"/>
              </a:rPr>
              <a:t>СХЭД должна обеспечивать выполнение следующих действий по приему электронных дел:</a:t>
            </a:r>
            <a:br>
              <a:rPr sz="3200"/>
            </a:b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51640" y="1556640"/>
            <a:ext cx="8568720" cy="47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ХЭД должна обеспечивать учет поступления электронных дел, документов на архивное хранение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чет поступивших на хранение в СХЭД электронных дел, документов должен осуществляться в соответствии с принятой схемой систематизации электронных дел, документов в СХЭД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хема систематизации электронных дел, документов в СХЭД включает следующие уровни: фонд, опись, раздел описи, электронное дело, внутренняя опись, электронный документ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ХЭД должна обеспечивать учет документов временных (до 10 лет включительно) сроков хранения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основе номенклатуры де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(без включения их в описи дел)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ХЭД должна обеспечивать формирование проектов годовых разделов описей электронных дел, документов для последующего их согласования и утверждения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ключение в СХЭД электронных дел должно осуществляться при создании архивной учетной формы (АУФ)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603360"/>
            <a:ext cx="82908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br>
              <a:rPr sz="3200"/>
            </a:br>
            <a:br>
              <a:rPr sz="3200"/>
            </a:br>
            <a:r>
              <a:rPr b="0" lang="ru-RU" sz="2700" spc="-1" strike="noStrike">
                <a:solidFill>
                  <a:srgbClr val="c00000"/>
                </a:solidFill>
                <a:latin typeface="Georgia"/>
              </a:rPr>
              <a:t>СХЭД должна обеспечивать выполнение следующих действий по приему электронных дел:</a:t>
            </a:r>
            <a:br>
              <a:rPr sz="3200"/>
            </a:b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56640"/>
            <a:ext cx="8229240" cy="47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Электронному делу при включении в СХЭД присваивается идентификационный учетный номер, который состоит из номера электронного дела по годовому разделу описи электронных дел, номера описи, номера фонда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Электронному документу при включении в СХЭД присваивается идентификационный учетный номер, который состоит из порядкового номера внутренней описи, номера электронного дела, номера описи, номера фонда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Архивный шифр электронных дел, документов, хранимых в СХЭД, является обязательным элементом описания контейнера электронного дела, документа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СХЭД должны включаться метаданные электронных документов, передаваемых из СЭД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603360"/>
            <a:ext cx="82908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br>
              <a:rPr sz="3200"/>
            </a:br>
            <a:br>
              <a:rPr sz="3200"/>
            </a:br>
            <a:r>
              <a:rPr b="0" lang="ru-RU" sz="2700" spc="-1" strike="noStrike">
                <a:solidFill>
                  <a:schemeClr val="accent3">
                    <a:lumMod val="50000"/>
                  </a:schemeClr>
                </a:solidFill>
                <a:latin typeface="Georgia"/>
              </a:rPr>
              <a:t>СХЭД должна обеспечивать выполнение следующих действий по приему электронных дел:</a:t>
            </a:r>
            <a:br>
              <a:rPr sz="3200"/>
            </a:b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2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0000"/>
          </a:bodyPr>
          <a:p>
            <a:pPr marL="236880" indent="-23688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ХЭД должна обеспечивать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36880" indent="-23688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хранение электронных документов и электронных копий документов вместе с их метаданными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(до уничтожения или передачи на последующее хранение в государственный архив);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36880" indent="-23688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ериодическое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езервное копирование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электронных документов;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36880" indent="-23688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ведомление ответственного должностного лица о необходимости проведения в соответствии с установленными сроками (периодичностью) проверки наличия и состояния электронных дел, документов;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36880" indent="-23688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автоматическую проверку наличия электронных документов;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36880" indent="-23688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осмотр состава электронных документов в электронном дел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, состава дел, относящихся к конкретной описи электронных дел, реестра описей дел в рамках фонда;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36880" indent="-23688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оверку соответствия учетных данных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АУФ различных уровней;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36880" indent="-23688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оздание (копирование) и включение в СХЭД экземпляров электронных дел, документов из их резервных экземпляров взамен поврежденных;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36880" indent="-23688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именение программы проверки технического состояния электронных документов и сохранения результатов проверки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в течение установленного времени;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36880" indent="-23688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формирование актов по результатам проверки наличия и технического состояния электронных дел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, внесение изменений в АУФ по результатам проверки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368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603360"/>
            <a:ext cx="82908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br>
              <a:rPr sz="3200"/>
            </a:br>
            <a:br>
              <a:rPr sz="3200"/>
            </a:br>
            <a:r>
              <a:rPr b="0" lang="ru-RU" sz="2700" spc="-1" strike="noStrike">
                <a:solidFill>
                  <a:schemeClr val="accent3">
                    <a:lumMod val="50000"/>
                  </a:schemeClr>
                </a:solidFill>
                <a:latin typeface="Georgia"/>
              </a:rPr>
              <a:t>СХЭД должна обеспечивать выполнение следующих действий по приему электронных дел:</a:t>
            </a:r>
            <a:br>
              <a:rPr sz="3200"/>
            </a:b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3640" y="1556640"/>
            <a:ext cx="8568720" cy="489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ХЭД должна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еспечить создание фонда пользования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электронных дел, документов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ХЭД должна обеспечивать создание с возможностью вывода на печать и/или записи его на другой электронный носитель: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а) архивной копии электронного документа или его части;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б) проекта архивной справки (архивной выписки)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ХЭД должна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еспечивать подписание архивной копии электронного архивного документа, архивной справки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(архивной выписки) электронной подписью уполномоченного должностного лица, ответственного за создание документа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ХЭД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олжна обеспечивать направление архивной копии, архивной справки (архивной выписки), подписанной электронной подписью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, по защищенной информационно-коммуникационной сети в СЭД государственного органа для регистрации и отправки заявителю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603360"/>
            <a:ext cx="82908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br>
              <a:rPr sz="3200"/>
            </a:br>
            <a:br>
              <a:rPr sz="3200"/>
            </a:br>
            <a:r>
              <a:rPr b="0" lang="ru-RU" sz="2700" spc="-1" strike="noStrike">
                <a:solidFill>
                  <a:schemeClr val="accent3">
                    <a:lumMod val="50000"/>
                  </a:schemeClr>
                </a:solidFill>
                <a:latin typeface="Georgia"/>
              </a:rPr>
              <a:t>СХЭД должна обеспечивать выполнение следующих действий по приему электронных дел:</a:t>
            </a:r>
            <a:br>
              <a:rPr sz="3200"/>
            </a:b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84640"/>
            <a:ext cx="8229240" cy="48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1000"/>
          </a:bodyPr>
          <a:p>
            <a:pPr marL="230400" indent="-230400">
              <a:lnSpc>
                <a:spcPct val="100000"/>
              </a:lnSpc>
              <a:spcBef>
                <a:spcPts val="144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7200" spc="-1" strike="noStrike">
                <a:solidFill>
                  <a:srgbClr val="000000"/>
                </a:solidFill>
                <a:latin typeface="Georgia"/>
              </a:rPr>
              <a:t>СХЭД </a:t>
            </a:r>
            <a:r>
              <a:rPr b="1" lang="ru-RU" sz="7200" spc="-1" strike="noStrike">
                <a:solidFill>
                  <a:srgbClr val="000000"/>
                </a:solidFill>
                <a:latin typeface="Georgia"/>
              </a:rPr>
              <a:t>должна поддерживать процессы экспертизы ценности документов временных (свыше 10 лет) сроков хранения</a:t>
            </a:r>
            <a:r>
              <a:rPr b="0" lang="ru-RU" sz="72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ru-RU" sz="7200" spc="-1" strike="noStrike">
              <a:solidFill>
                <a:srgbClr val="000000"/>
              </a:solidFill>
              <a:latin typeface="Georgia"/>
            </a:endParaRPr>
          </a:p>
          <a:p>
            <a:pPr marL="230400" indent="-230400">
              <a:lnSpc>
                <a:spcPct val="100000"/>
              </a:lnSpc>
              <a:spcBef>
                <a:spcPts val="144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7200" spc="-1" strike="noStrike">
                <a:solidFill>
                  <a:srgbClr val="000000"/>
                </a:solidFill>
                <a:latin typeface="Georgia"/>
              </a:rPr>
              <a:t>формирование уведомлений ответственного должностного лица об истечении сроков хранения электронных дел, документов;</a:t>
            </a:r>
            <a:endParaRPr b="0" lang="ru-RU" sz="7200" spc="-1" strike="noStrike">
              <a:solidFill>
                <a:srgbClr val="000000"/>
              </a:solidFill>
              <a:latin typeface="Georgia"/>
            </a:endParaRPr>
          </a:p>
          <a:p>
            <a:pPr marL="230400" indent="-230400">
              <a:lnSpc>
                <a:spcPct val="100000"/>
              </a:lnSpc>
              <a:spcBef>
                <a:spcPts val="144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7200" spc="-1" strike="noStrike">
                <a:solidFill>
                  <a:srgbClr val="000000"/>
                </a:solidFill>
                <a:latin typeface="Georgia"/>
              </a:rPr>
              <a:t>отбор дел, документов с истекающим (истекшим) сроком хранения;</a:t>
            </a:r>
            <a:endParaRPr b="0" lang="ru-RU" sz="7200" spc="-1" strike="noStrike">
              <a:solidFill>
                <a:srgbClr val="000000"/>
              </a:solidFill>
              <a:latin typeface="Georgia"/>
            </a:endParaRPr>
          </a:p>
          <a:p>
            <a:pPr marL="230400" indent="-230400">
              <a:lnSpc>
                <a:spcPct val="100000"/>
              </a:lnSpc>
              <a:spcBef>
                <a:spcPts val="144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7200" spc="-1" strike="noStrike">
                <a:solidFill>
                  <a:srgbClr val="000000"/>
                </a:solidFill>
                <a:latin typeface="Georgia"/>
              </a:rPr>
              <a:t>формирование и хранение актов о выделении к уничтожению дел, документов, не подлежащих хранению (с выводом их на печать);</a:t>
            </a:r>
            <a:endParaRPr b="0" lang="ru-RU" sz="7200" spc="-1" strike="noStrike">
              <a:solidFill>
                <a:srgbClr val="000000"/>
              </a:solidFill>
              <a:latin typeface="Georgia"/>
            </a:endParaRPr>
          </a:p>
          <a:p>
            <a:pPr marL="230400" indent="-230400">
              <a:lnSpc>
                <a:spcPct val="100000"/>
              </a:lnSpc>
              <a:spcBef>
                <a:spcPts val="144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7200" spc="-1" strike="noStrike">
                <a:solidFill>
                  <a:srgbClr val="000000"/>
                </a:solidFill>
                <a:latin typeface="Georgia"/>
              </a:rPr>
              <a:t>просмотр электронных документов в электронном деле, дел, включенных в опись электронных дел, реестра описей дел в рамках фонда;</a:t>
            </a:r>
            <a:endParaRPr b="0" lang="ru-RU" sz="7200" spc="-1" strike="noStrike">
              <a:solidFill>
                <a:srgbClr val="000000"/>
              </a:solidFill>
              <a:latin typeface="Georgia"/>
            </a:endParaRPr>
          </a:p>
          <a:p>
            <a:pPr marL="230400" indent="-230400">
              <a:lnSpc>
                <a:spcPct val="100000"/>
              </a:lnSpc>
              <a:spcBef>
                <a:spcPts val="144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7200" spc="-1" strike="noStrike">
                <a:solidFill>
                  <a:srgbClr val="000000"/>
                </a:solidFill>
                <a:latin typeface="Georgia"/>
              </a:rPr>
              <a:t>удаление включенных в СХЭД электронных дел, документов, в том числе их резервных экземпляров, в соответствии с актом о выделении к уничтожению;</a:t>
            </a:r>
            <a:endParaRPr b="0" lang="ru-RU" sz="7200" spc="-1" strike="noStrike">
              <a:solidFill>
                <a:srgbClr val="000000"/>
              </a:solidFill>
              <a:latin typeface="Georgia"/>
            </a:endParaRPr>
          </a:p>
          <a:p>
            <a:pPr marL="230400" indent="-230400">
              <a:lnSpc>
                <a:spcPct val="100000"/>
              </a:lnSpc>
              <a:spcBef>
                <a:spcPts val="144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7200" spc="-1" strike="noStrike">
                <a:solidFill>
                  <a:srgbClr val="000000"/>
                </a:solidFill>
                <a:latin typeface="Georgia"/>
              </a:rPr>
              <a:t>внесение данных об уничтожении электронных документов в АУФ;</a:t>
            </a:r>
            <a:endParaRPr b="0" lang="ru-RU" sz="7200" spc="-1" strike="noStrike">
              <a:solidFill>
                <a:srgbClr val="000000"/>
              </a:solidFill>
              <a:latin typeface="Georgia"/>
            </a:endParaRPr>
          </a:p>
          <a:p>
            <a:pPr marL="230400" indent="-230400">
              <a:lnSpc>
                <a:spcPct val="100000"/>
              </a:lnSpc>
              <a:spcBef>
                <a:spcPts val="144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7200" spc="-1" strike="noStrike">
                <a:solidFill>
                  <a:srgbClr val="000000"/>
                </a:solidFill>
                <a:latin typeface="Georgia"/>
              </a:rPr>
              <a:t>корректировка сроков хранения электронных дел, документов по результатам экспертизы ценности в случае изменения срока хранения;</a:t>
            </a:r>
            <a:endParaRPr b="0" lang="ru-RU" sz="7200" spc="-1" strike="noStrike">
              <a:solidFill>
                <a:srgbClr val="000000"/>
              </a:solidFill>
              <a:latin typeface="Georgia"/>
            </a:endParaRPr>
          </a:p>
          <a:p>
            <a:pPr marL="230400" indent="-230400">
              <a:lnSpc>
                <a:spcPct val="100000"/>
              </a:lnSpc>
              <a:spcBef>
                <a:spcPts val="144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7200" spc="-1" strike="noStrike">
                <a:solidFill>
                  <a:srgbClr val="000000"/>
                </a:solidFill>
                <a:latin typeface="Georgia"/>
              </a:rPr>
              <a:t>изменение состава электронных документов электронного дела;</a:t>
            </a:r>
            <a:endParaRPr b="0" lang="ru-RU" sz="7200" spc="-1" strike="noStrike">
              <a:solidFill>
                <a:srgbClr val="000000"/>
              </a:solidFill>
              <a:latin typeface="Georgia"/>
            </a:endParaRPr>
          </a:p>
          <a:p>
            <a:pPr marL="230400" indent="-230400">
              <a:lnSpc>
                <a:spcPct val="100000"/>
              </a:lnSpc>
              <a:spcBef>
                <a:spcPts val="144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7200" spc="-1" strike="noStrike">
                <a:solidFill>
                  <a:srgbClr val="000000"/>
                </a:solidFill>
                <a:latin typeface="Georgia"/>
              </a:rPr>
              <a:t>отбор электронных дел, документов постоянного срока хранения, подлежащих передаче в государственный архив, источником комплектования которого является государственный орган.</a:t>
            </a:r>
            <a:endParaRPr b="0" lang="ru-RU" sz="7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7640" y="260640"/>
            <a:ext cx="7714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рмативные правовые акты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24640"/>
            <a:ext cx="82292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3000"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приказ Министерства культуры Российской Федерации от 31.03.2015</a:t>
            </a: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     № 526 «Об утверждении Правил организации хранения, комплектования, учета и использования документов Архивного фонда Российской Федерации и других архивных документов в государственных органах, органах местного самоуправления и организациях»</a:t>
            </a: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ru-RU" sz="8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8800" spc="-1" strike="noStrike">
              <a:solidFill>
                <a:srgbClr val="000000"/>
              </a:solidFill>
              <a:latin typeface="Georgia"/>
            </a:endParaRPr>
          </a:p>
          <a:p>
            <a:pPr indent="-252360">
              <a:lnSpc>
                <a:spcPct val="100000"/>
              </a:lnSpc>
              <a:buClr>
                <a:srgbClr val="f0ad00"/>
              </a:buClr>
              <a:buSzPct val="85000"/>
              <a:buFont typeface="Wingdings" charset="2"/>
              <a:buChar char=""/>
              <a:tabLst>
                <a:tab algn="l" pos="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приказ Федерального архивного агентства от 22.05.2019 № 71</a:t>
            </a:r>
            <a:br>
              <a:rPr sz="8800"/>
            </a:b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 «Об утверждении Правил делопроизводства в государственных органах, органах местного самоуправления»</a:t>
            </a: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ru-RU" sz="8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8800" spc="-1" strike="noStrike">
              <a:solidFill>
                <a:srgbClr val="000000"/>
              </a:solidFill>
              <a:latin typeface="Georgia"/>
            </a:endParaRPr>
          </a:p>
          <a:p>
            <a:pPr indent="-252360">
              <a:lnSpc>
                <a:spcPct val="100000"/>
              </a:lnSpc>
              <a:buClr>
                <a:srgbClr val="f0ad00"/>
              </a:buClr>
              <a:buSzPct val="85000"/>
              <a:buFont typeface="Wingdings" charset="2"/>
              <a:buChar char=""/>
              <a:tabLst>
                <a:tab algn="l" pos="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приказ Федерального архивного агентства от 15.06.2020 № 69                           «Об утверждении Типовых функциональных требований к системам электронного документооборота и системам хранения электронных документов архивах государственных органов»</a:t>
            </a: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8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603360"/>
            <a:ext cx="82908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br>
              <a:rPr sz="3200"/>
            </a:br>
            <a:br>
              <a:rPr sz="3200"/>
            </a:br>
            <a:r>
              <a:rPr b="0" lang="ru-RU" sz="2700" spc="-1" strike="noStrike">
                <a:solidFill>
                  <a:schemeClr val="accent3">
                    <a:lumMod val="50000"/>
                  </a:schemeClr>
                </a:solidFill>
                <a:latin typeface="Georgia"/>
              </a:rPr>
              <a:t>СХЭД должна обеспечивать выполнение следующих действий по приему электронных дел:</a:t>
            </a:r>
            <a:br>
              <a:rPr sz="3200"/>
            </a:b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56640"/>
            <a:ext cx="82292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СХЭД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олжна реализовываться передача электронных дел, документов в государственный архив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, источником комплектования которого является государственный орган, по защищенным каналам связи в соответствии с организационно-техническими требованиями к указанному информационному взаимодействию, предусмотренными главой VI Правил 2015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ХЭД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олжна обеспечивать формирование акта приема-передачи электронных дел, документов в государственный архив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, источником комплектования которого является государственный орган, в электронном виде с возможностью вывода на печать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ХЭД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олжна хранить информацию о передаче электронных дел, документов в государственный архив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, источником комплектования которого является государственный орган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332640"/>
            <a:ext cx="7714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рмативно-методическое обеспечение работы с электронными документами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4640"/>
            <a:ext cx="8229240" cy="511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33000"/>
          </a:bodyPr>
          <a:p>
            <a:pPr indent="0">
              <a:lnSpc>
                <a:spcPct val="100000"/>
              </a:lnSpc>
              <a:spcBef>
                <a:spcPts val="1599"/>
              </a:spcBef>
              <a:buNone/>
            </a:pP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marL="2782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marL="278280" indent="-278280">
              <a:lnSpc>
                <a:spcPct val="100000"/>
              </a:lnSpc>
              <a:spcBef>
                <a:spcPts val="159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ряжение Правительства Свердловской области от 02.02.2015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81-РП «Об утверждении Типового перечня документов, создание, хранение и использование которых в Аппарате Губернатора Свердловской области и Правительства Свердловской области, Правительстве Свердловской области и исполнительных органах государственной власти Свердловской области может осуществляться исключительно в форме электронного документа»;</a:t>
            </a: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8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7640" y="260640"/>
            <a:ext cx="7704360" cy="7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200" spc="-1" strike="noStrike">
                <a:solidFill>
                  <a:srgbClr val="c00000"/>
                </a:solidFill>
                <a:latin typeface="Georgia"/>
              </a:rPr>
              <a:t>Нормативно-методическое обеспечение работы с электронными документами</a:t>
            </a: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00640"/>
            <a:ext cx="82292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3000"/>
          </a:bodyPr>
          <a:p>
            <a:pPr marL="267480" indent="0">
              <a:lnSpc>
                <a:spcPct val="100000"/>
              </a:lnSpc>
              <a:spcBef>
                <a:spcPts val="459"/>
              </a:spcBef>
              <a:buNone/>
              <a:tabLst>
                <a:tab algn="l" pos="0"/>
              </a:tabLst>
            </a:pPr>
            <a:endParaRPr b="0" lang="ru-RU" sz="2300" spc="-1" strike="noStrike">
              <a:solidFill>
                <a:srgbClr val="000000"/>
              </a:solidFill>
              <a:latin typeface="Georgia"/>
            </a:endParaRPr>
          </a:p>
          <a:p>
            <a:pPr marL="267480" indent="-267480">
              <a:lnSpc>
                <a:spcPct val="100000"/>
              </a:lnSpc>
              <a:spcBef>
                <a:spcPts val="45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ГОСТ Р ИСО 15489-1 – 2007 «Система стандартов по информации, библиотечному и издательскому делу» «Управление документами. Общие требования» </a:t>
            </a:r>
            <a:r>
              <a:rPr b="0" i="1" lang="ru-RU" sz="2300" spc="-1" strike="noStrike">
                <a:solidFill>
                  <a:srgbClr val="000000"/>
                </a:solidFill>
                <a:latin typeface="Times New Roman"/>
              </a:rPr>
              <a:t>утвержден и с 01.03.2014 приказом Росстандарта от 12.03.2007  № 28-ст, введен в действие с 01.07.2007; </a:t>
            </a:r>
            <a:endParaRPr b="0" lang="ru-RU" sz="2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59"/>
              </a:spcBef>
              <a:buNone/>
              <a:tabLst>
                <a:tab algn="l" pos="0"/>
              </a:tabLst>
            </a:pPr>
            <a:endParaRPr b="0" lang="ru-RU" sz="2300" spc="-1" strike="noStrike">
              <a:solidFill>
                <a:srgbClr val="000000"/>
              </a:solidFill>
              <a:latin typeface="Georgia"/>
            </a:endParaRPr>
          </a:p>
          <a:p>
            <a:pPr marL="267480" indent="-267480">
              <a:lnSpc>
                <a:spcPct val="100000"/>
              </a:lnSpc>
              <a:spcBef>
                <a:spcPts val="45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ГОСТ Р 7.0.8-2013 «Система стандартов по информации, библиотечному и издательскому делу. Делопроизводство и архивное дело. Термины и определения»</a:t>
            </a:r>
            <a:r>
              <a:rPr b="0" i="1" lang="ru-RU" sz="2300" spc="-1" strike="noStrike">
                <a:solidFill>
                  <a:srgbClr val="000000"/>
                </a:solidFill>
                <a:latin typeface="Times New Roman"/>
              </a:rPr>
              <a:t>  - утвержден и введен в действие с 01.03.2014 приказом Росстандарта от 17.10.2013  № 1185-ст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2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59"/>
              </a:spcBef>
              <a:buNone/>
              <a:tabLst>
                <a:tab algn="l" pos="0"/>
              </a:tabLst>
            </a:pPr>
            <a:endParaRPr b="0" lang="ru-RU" sz="2300" spc="-1" strike="noStrike">
              <a:solidFill>
                <a:srgbClr val="000000"/>
              </a:solidFill>
              <a:latin typeface="Georgia"/>
            </a:endParaRPr>
          </a:p>
          <a:p>
            <a:pPr marL="267480" indent="-267480">
              <a:lnSpc>
                <a:spcPct val="100000"/>
              </a:lnSpc>
              <a:spcBef>
                <a:spcPts val="45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ГОСТ Р 7.0.97-2016  «Система стандартов по информации, библиотечному и издательскому делу. Организационно-распорядительная документация. Требования к оформлению документов»</a:t>
            </a:r>
            <a:endParaRPr b="0" lang="ru-RU" sz="2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640" y="332640"/>
            <a:ext cx="7488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Нормативно-методическое обеспечение работы с электронными документами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00640"/>
            <a:ext cx="82292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 по комплектованию, учету и организации хранения электронных документов в государственных и муниципальных архивах. ВНИИДАД, Москва. 20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 «Составление архивных описей в электронной форме и их интеграция в информационную инфраструктуру государственных и муниципальных архивах. ВНИИДАД, Москва. 20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59"/>
              </a:spcBef>
              <a:buNone/>
            </a:pPr>
            <a:endParaRPr b="0" lang="ru-RU" sz="2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59"/>
              </a:spcBef>
              <a:buNone/>
            </a:pPr>
            <a:endParaRPr b="0" lang="ru-RU" sz="2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59"/>
              </a:spcBef>
              <a:buNone/>
            </a:pPr>
            <a:endParaRPr b="0" lang="ru-RU" sz="2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59"/>
              </a:spcBef>
              <a:buNone/>
            </a:pPr>
            <a:endParaRPr b="0" lang="ru-RU" sz="2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59"/>
              </a:spcBef>
              <a:buNone/>
            </a:pPr>
            <a:endParaRPr b="0" lang="ru-RU" sz="2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7640" y="332640"/>
            <a:ext cx="7632360" cy="7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a5f6e"/>
                </a:solidFill>
                <a:latin typeface="Georgia"/>
              </a:rPr>
              <a:t>Комплектование архива государственного органа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Скругленная прямоугольная выноска 4"/>
          <p:cNvSpPr/>
          <p:nvPr/>
        </p:nvSpPr>
        <p:spPr>
          <a:xfrm>
            <a:off x="395640" y="1556640"/>
            <a:ext cx="2880360" cy="3240000"/>
          </a:xfrm>
          <a:prstGeom prst="wedgeRoundRectCallout">
            <a:avLst>
              <a:gd name="adj1" fmla="val 75043"/>
              <a:gd name="adj2" fmla="val -18345"/>
              <a:gd name="adj3" fmla="val 16667"/>
            </a:avLst>
          </a:prstGeom>
          <a:solidFill>
            <a:schemeClr val="accent3">
              <a:lumMod val="20000"/>
              <a:lumOff val="80000"/>
            </a:schemeClr>
          </a:solidFill>
          <a:ln>
            <a:solidFill>
              <a:srgbClr val="b17f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c00000"/>
                </a:solidFill>
                <a:latin typeface="Georgia"/>
              </a:rPr>
              <a:t>Дела постоянного и временных (свыше 10 лет) сроков хранения передаются в архив государственного органа не ранее чем через один год и не позднее чем через три года после завершения дел в делопроизводств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ая прямоугольная выноска 5"/>
          <p:cNvSpPr/>
          <p:nvPr/>
        </p:nvSpPr>
        <p:spPr>
          <a:xfrm>
            <a:off x="2267640" y="4869000"/>
            <a:ext cx="5400360" cy="1800000"/>
          </a:xfrm>
          <a:prstGeom prst="wedgeRoundRectCallout">
            <a:avLst>
              <a:gd name="adj1" fmla="val -10755"/>
              <a:gd name="adj2" fmla="val -106671"/>
              <a:gd name="adj3" fmla="val 16667"/>
            </a:avLst>
          </a:prstGeom>
          <a:solidFill>
            <a:schemeClr val="accent3">
              <a:lumMod val="20000"/>
              <a:lumOff val="80000"/>
            </a:schemeClr>
          </a:solidFill>
          <a:ln>
            <a:solidFill>
              <a:srgbClr val="b17f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c00000"/>
                </a:solidFill>
                <a:latin typeface="Georgia"/>
              </a:rPr>
              <a:t>Дела временных (до 10 лет включительно) сроков хранения в архив государственного органа, органа местного самоуправления не передаются и подлежат выделению к уничтожению по истечении срока их хранения в установленном поряд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8"/>
          <p:cNvSpPr/>
          <p:nvPr/>
        </p:nvSpPr>
        <p:spPr>
          <a:xfrm>
            <a:off x="5508000" y="1268640"/>
            <a:ext cx="2736000" cy="741240"/>
          </a:xfrm>
          <a:prstGeom prst="roundRect">
            <a:avLst>
              <a:gd name="adj" fmla="val 16667"/>
            </a:avLst>
          </a:prstGeom>
          <a:solidFill>
            <a:schemeClr val="accent3"/>
          </a:solidFill>
          <a:ln>
            <a:solidFill>
              <a:srgbClr val="b17f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АРХИВ ГОСУДАРСТВЕННОГО ОРГ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E:\Рисунки\д42.jpg"/>
          <p:cNvPicPr/>
          <p:nvPr/>
        </p:nvPicPr>
        <p:blipFill>
          <a:blip r:embed="rId1"/>
          <a:stretch/>
        </p:blipFill>
        <p:spPr>
          <a:xfrm>
            <a:off x="4788000" y="2205000"/>
            <a:ext cx="3600000" cy="23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3640" y="332640"/>
            <a:ext cx="8424720" cy="7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marL="274320" indent="0" algn="ctr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готовка электронных дел  к передаче в архив государственного органа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7640" y="1700640"/>
            <a:ext cx="8506800" cy="489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39000"/>
          </a:bodyPr>
          <a:p>
            <a:pPr marL="351000" indent="-267120">
              <a:lnSpc>
                <a:spcPct val="100000"/>
              </a:lnSpc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Электронные документы формируются в электронные дела в соответствии с номенклатурой дел.</a:t>
            </a:r>
            <a:endParaRPr b="0" lang="ru-RU" sz="6000" spc="-1" strike="noStrike">
              <a:solidFill>
                <a:srgbClr val="000000"/>
              </a:solidFill>
              <a:latin typeface="Georgia"/>
            </a:endParaRPr>
          </a:p>
          <a:p>
            <a:pPr marL="351000" indent="-267120">
              <a:lnSpc>
                <a:spcPct val="100000"/>
              </a:lnSpc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Электронные документы независимо от их объема включаются в одно электронное дело без разделения на тома.</a:t>
            </a:r>
            <a:endParaRPr b="0" lang="ru-RU" sz="6000" spc="-1" strike="noStrike">
              <a:solidFill>
                <a:srgbClr val="000000"/>
              </a:solidFill>
              <a:latin typeface="Georgia"/>
            </a:endParaRPr>
          </a:p>
          <a:p>
            <a:pPr marL="351000" indent="-267120">
              <a:lnSpc>
                <a:spcPct val="100000"/>
              </a:lnSpc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В случае если документы дела представлены на бумажном носителе и в форме электронных документов («гибридное дело»), документы на бумажном носителе подлежат оцифровке и включению в электронное дело. В дело, которое ведется на бумажном носителе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включаются только документы, созданные (поступившие) на бумажном носителе. </a:t>
            </a:r>
            <a:endParaRPr b="0" lang="ru-RU" sz="6000" spc="-1" strike="noStrike">
              <a:solidFill>
                <a:srgbClr val="000000"/>
              </a:solidFill>
              <a:latin typeface="Georgia"/>
            </a:endParaRPr>
          </a:p>
          <a:p>
            <a:pPr marL="351000" indent="-267120">
              <a:lnSpc>
                <a:spcPct val="100000"/>
              </a:lnSpc>
              <a:buClr>
                <a:srgbClr val="f0ad00"/>
              </a:buClr>
              <a:buSzPct val="85000"/>
              <a:buFont typeface="Wingdings 2" charset="2"/>
              <a:buChar char=""/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В номенклатуре дел электронное дело и дело на бумажном носителе отражаются как два тома, имеющие один заголовок, индекс и срок хранения.</a:t>
            </a:r>
            <a:endParaRPr b="0" lang="ru-RU" sz="6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120"/>
              </a:spcBef>
              <a:buNone/>
            </a:pPr>
            <a:endParaRPr b="0" lang="ru-RU" sz="5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7640" y="188640"/>
            <a:ext cx="8229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Georgia"/>
              </a:rPr>
              <a:t>Оформление архивных дел, документов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35" name="Группа 12"/>
          <p:cNvGrpSpPr/>
          <p:nvPr/>
        </p:nvGrpSpPr>
        <p:grpSpPr>
          <a:xfrm>
            <a:off x="395640" y="4077000"/>
            <a:ext cx="3771720" cy="2232000"/>
            <a:chOff x="395640" y="4077000"/>
            <a:chExt cx="3771720" cy="2232000"/>
          </a:xfrm>
        </p:grpSpPr>
        <p:sp>
          <p:nvSpPr>
            <p:cNvPr id="136" name="Скругленный прямоугольник 13"/>
            <p:cNvSpPr/>
            <p:nvPr/>
          </p:nvSpPr>
          <p:spPr>
            <a:xfrm>
              <a:off x="395640" y="4077000"/>
              <a:ext cx="3771720" cy="2232000"/>
            </a:xfrm>
            <a:prstGeom prst="roundRect">
              <a:avLst>
                <a:gd name="adj" fmla="val 10000"/>
              </a:avLst>
            </a:prstGeom>
            <a:solidFill>
              <a:srgbClr val="f0ad00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Скругленный прямоугольник 4"/>
            <p:cNvSpPr/>
            <p:nvPr/>
          </p:nvSpPr>
          <p:spPr>
            <a:xfrm>
              <a:off x="453600" y="4142520"/>
              <a:ext cx="3655440" cy="2100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57240" rIns="57240" tIns="57240" bIns="57240" anchor="ctr">
              <a:noAutofit/>
            </a:bodyPr>
            <a:p>
              <a:pPr algn="ctr">
                <a:lnSpc>
                  <a:spcPct val="90000"/>
                </a:lnSpc>
                <a:spcAft>
                  <a:spcPts val="629"/>
                </a:spcAft>
              </a:pPr>
              <a:r>
                <a:rPr b="1" lang="ru-RU" sz="1800" spc="-1" strike="noStrike">
                  <a:solidFill>
                    <a:srgbClr val="ff0000"/>
                  </a:solidFill>
                  <a:latin typeface="Georgia"/>
                </a:rPr>
                <a:t>подшивку или переплет документов дела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29"/>
                </a:spcAft>
              </a:pPr>
              <a:r>
                <a:rPr b="1" lang="ru-RU" sz="1800" spc="-1" strike="noStrike">
                  <a:solidFill>
                    <a:srgbClr val="ff0000"/>
                  </a:solidFill>
                  <a:latin typeface="Georgia"/>
                </a:rPr>
                <a:t>нумерацию листов дела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29"/>
                </a:spcAft>
              </a:pPr>
              <a:r>
                <a:rPr b="1" lang="ru-RU" sz="1800" spc="-1" strike="noStrike">
                  <a:solidFill>
                    <a:srgbClr val="ff0000"/>
                  </a:solidFill>
                  <a:latin typeface="Georgia"/>
                </a:rPr>
                <a:t>составление листа-заверителя дела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29"/>
                </a:spcAft>
              </a:pPr>
              <a:r>
                <a:rPr b="1" lang="ru-RU" sz="1800" spc="-1" strike="noStrike">
                  <a:solidFill>
                    <a:srgbClr val="ff0000"/>
                  </a:solidFill>
                  <a:latin typeface="Georgia"/>
                </a:rPr>
                <a:t>составление внутренней описи документов дел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Группа 15"/>
          <p:cNvGrpSpPr/>
          <p:nvPr/>
        </p:nvGrpSpPr>
        <p:grpSpPr>
          <a:xfrm>
            <a:off x="4716000" y="4077000"/>
            <a:ext cx="3771720" cy="2232000"/>
            <a:chOff x="4716000" y="4077000"/>
            <a:chExt cx="3771720" cy="2232000"/>
          </a:xfrm>
        </p:grpSpPr>
        <p:sp>
          <p:nvSpPr>
            <p:cNvPr id="139" name="Скругленный прямоугольник 16"/>
            <p:cNvSpPr/>
            <p:nvPr/>
          </p:nvSpPr>
          <p:spPr>
            <a:xfrm>
              <a:off x="4716000" y="4077000"/>
              <a:ext cx="3771720" cy="2232000"/>
            </a:xfrm>
            <a:prstGeom prst="roundRect">
              <a:avLst>
                <a:gd name="adj" fmla="val 10000"/>
              </a:avLst>
            </a:prstGeom>
            <a:solidFill>
              <a:srgbClr val="f0ad00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Скругленный прямоугольник 4"/>
            <p:cNvSpPr/>
            <p:nvPr/>
          </p:nvSpPr>
          <p:spPr>
            <a:xfrm>
              <a:off x="4773960" y="4142520"/>
              <a:ext cx="3655440" cy="2100960"/>
            </a:xfrm>
            <a:prstGeom prst="rect">
              <a:avLst/>
            </a:prstGeom>
            <a:solidFill>
              <a:schemeClr val="bg1"/>
            </a:solidFill>
            <a:ln w="0">
              <a:solidFill>
                <a:srgbClr val="c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57240" rIns="57240" tIns="57240" bIns="57240" anchor="ctr">
              <a:noAutofit/>
            </a:bodyPr>
            <a:p>
              <a:pPr algn="ctr">
                <a:lnSpc>
                  <a:spcPct val="90000"/>
                </a:lnSpc>
                <a:spcAft>
                  <a:spcPts val="629"/>
                </a:spcAft>
              </a:pPr>
              <a:r>
                <a:rPr b="1" lang="ru-RU" sz="1800" spc="-1" strike="noStrike">
                  <a:solidFill>
                    <a:srgbClr val="ff0000"/>
                  </a:solidFill>
                  <a:latin typeface="Georgia"/>
                </a:rPr>
                <a:t>конвертацию электронных документов в формат </a:t>
              </a:r>
              <a:r>
                <a:rPr b="1" lang="en-US" sz="1800" spc="-1" strike="noStrike">
                  <a:solidFill>
                    <a:srgbClr val="ff0000"/>
                  </a:solidFill>
                  <a:latin typeface="Georgia"/>
                </a:rPr>
                <a:t>PDF/</a:t>
              </a:r>
              <a:r>
                <a:rPr b="1" lang="ru-RU" sz="1800" spc="-1" strike="noStrike">
                  <a:solidFill>
                    <a:srgbClr val="ff0000"/>
                  </a:solidFill>
                  <a:latin typeface="Georgia"/>
                </a:rPr>
                <a:t>А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29"/>
                </a:spcAft>
              </a:pPr>
              <a:r>
                <a:rPr b="1" lang="ru-RU" sz="1800" spc="-1" strike="noStrike">
                  <a:solidFill>
                    <a:srgbClr val="ff0000"/>
                  </a:solidFill>
                  <a:latin typeface="Georgia"/>
                </a:rPr>
                <a:t>формирование электронных документов в контейнеры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29"/>
                </a:spcAft>
              </a:pPr>
              <a:r>
                <a:rPr b="1" lang="ru-RU" sz="1800" spc="-1" strike="noStrike">
                  <a:solidFill>
                    <a:srgbClr val="ff0000"/>
                  </a:solidFill>
                  <a:latin typeface="Georgia"/>
                </a:rPr>
                <a:t>формирование контейнеров в дела (единицы хран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Скругленный прямоугольник 25"/>
          <p:cNvSpPr/>
          <p:nvPr/>
        </p:nvSpPr>
        <p:spPr>
          <a:xfrm>
            <a:off x="323640" y="1556640"/>
            <a:ext cx="3600000" cy="194400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b17f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формление дел на бумажной основе предусматрив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27"/>
          <p:cNvSpPr/>
          <p:nvPr/>
        </p:nvSpPr>
        <p:spPr>
          <a:xfrm>
            <a:off x="5076000" y="1556640"/>
            <a:ext cx="3600000" cy="194400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b17f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формление электронных дел предусматрив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трелка вниз 28"/>
          <p:cNvSpPr/>
          <p:nvPr/>
        </p:nvSpPr>
        <p:spPr>
          <a:xfrm>
            <a:off x="1547640" y="3501000"/>
            <a:ext cx="1583640" cy="575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64847"/>
          </a:solidFill>
          <a:ln>
            <a:solidFill>
              <a:srgbClr val="923534"/>
            </a:solidFill>
            <a:round/>
          </a:ln>
        </p:spPr>
        <p:style>
          <a:lnRef idx="2">
            <a:schemeClr val="accent6">
              <a:shade val="50000"/>
            </a:schemeClr>
          </a:lnRef>
          <a:fillRef idx="1">
            <a:schemeClr val="accent6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44" name="Стрелка вниз 29"/>
          <p:cNvSpPr/>
          <p:nvPr/>
        </p:nvSpPr>
        <p:spPr>
          <a:xfrm>
            <a:off x="5940000" y="3501000"/>
            <a:ext cx="1583640" cy="575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64847"/>
          </a:solidFill>
          <a:ln>
            <a:solidFill>
              <a:srgbClr val="923534"/>
            </a:solidFill>
            <a:round/>
          </a:ln>
        </p:spPr>
        <p:style>
          <a:lnRef idx="2">
            <a:schemeClr val="accent6">
              <a:shade val="50000"/>
            </a:schemeClr>
          </a:lnRef>
          <a:fillRef idx="1">
            <a:schemeClr val="accent6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фициальная">
  <a:themeElements>
    <a:clrScheme name="Модульная">
      <a:dk1>
        <a:srgbClr val="000000"/>
      </a:dk1>
      <a:lt1>
        <a:srgbClr val="ffffff"/>
      </a:lt1>
      <a:dk2>
        <a:srgbClr val="5a6378"/>
      </a:dk2>
      <a:lt2>
        <a:srgbClr val="d4d4d6"/>
      </a:lt2>
      <a:accent1>
        <a:srgbClr val="f0ad00"/>
      </a:accent1>
      <a:accent2>
        <a:srgbClr val="60b5cc"/>
      </a:accent2>
      <a:accent3>
        <a:srgbClr val="e66c7d"/>
      </a:accent3>
      <a:accent4>
        <a:srgbClr val="6bb76d"/>
      </a:accent4>
      <a:accent5>
        <a:srgbClr val="e88651"/>
      </a:accent5>
      <a:accent6>
        <a:srgbClr val="c64847"/>
      </a:accent6>
      <a:hlink>
        <a:srgbClr val="168bba"/>
      </a:hlink>
      <a:folHlink>
        <a:srgbClr val="68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фициальная">
  <a:themeElements>
    <a:clrScheme name="Модульная">
      <a:dk1>
        <a:srgbClr val="000000"/>
      </a:dk1>
      <a:lt1>
        <a:srgbClr val="ffffff"/>
      </a:lt1>
      <a:dk2>
        <a:srgbClr val="5a6378"/>
      </a:dk2>
      <a:lt2>
        <a:srgbClr val="d4d4d6"/>
      </a:lt2>
      <a:accent1>
        <a:srgbClr val="f0ad00"/>
      </a:accent1>
      <a:accent2>
        <a:srgbClr val="60b5cc"/>
      </a:accent2>
      <a:accent3>
        <a:srgbClr val="e66c7d"/>
      </a:accent3>
      <a:accent4>
        <a:srgbClr val="6bb76d"/>
      </a:accent4>
      <a:accent5>
        <a:srgbClr val="e88651"/>
      </a:accent5>
      <a:accent6>
        <a:srgbClr val="c64847"/>
      </a:accent6>
      <a:hlink>
        <a:srgbClr val="168bba"/>
      </a:hlink>
      <a:folHlink>
        <a:srgbClr val="68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5a6378"/>
      </a:dk2>
      <a:lt2>
        <a:srgbClr val="d4d4d6"/>
      </a:lt2>
      <a:accent1>
        <a:srgbClr val="f0ad00"/>
      </a:accent1>
      <a:accent2>
        <a:srgbClr val="60b5cc"/>
      </a:accent2>
      <a:accent3>
        <a:srgbClr val="e66c7d"/>
      </a:accent3>
      <a:accent4>
        <a:srgbClr val="6bb76d"/>
      </a:accent4>
      <a:accent5>
        <a:srgbClr val="e88651"/>
      </a:accent5>
      <a:accent6>
        <a:srgbClr val="c64847"/>
      </a:accent6>
      <a:hlink>
        <a:srgbClr val="168bba"/>
      </a:hlink>
      <a:folHlink>
        <a:srgbClr val="68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1312</TotalTime>
  <Application>LibreOffice/7.4.7.2$Linux_X86_64 LibreOffice_project/40$Build-2</Application>
  <AppVersion>15.0000</AppVersion>
  <Words>1975</Words>
  <Paragraphs>20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6T09:33:19Z</dcterms:created>
  <dc:creator>Стафеева Татьяна Валерьевна</dc:creator>
  <dc:description/>
  <dc:language>en-US</dc:language>
  <cp:lastModifiedBy>t.stafeeva</cp:lastModifiedBy>
  <dcterms:modified xsi:type="dcterms:W3CDTF">2020-12-01T09:41:05Z</dcterms:modified>
  <cp:revision>17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30</vt:r8>
  </property>
</Properties>
</file>