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722-9371-4955-AD76-C5897BC4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8D4-B6CF-45EF-8AF5-7D52D2B8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954-2348-4911-B6E1-B2F71F3B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23D-4A8C-4C2F-9E17-4B1F01C6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B1A0-9615-49EE-9DF7-24F70034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C527-9148-4EC7-9C1B-27DB8E13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D466-6FE2-4E30-A10C-459A5B69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8E6C-0F6B-40E7-965A-2DF9CC6B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7217-E67A-4F96-B8C8-8AF75CA5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040" cy="6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7101-6099-49FA-9094-0C4D72A6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3A78-2CD9-4293-AE07-FB9209CF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D4C-B344-47F3-8EC5-11DB2270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2449-2EE7-4570-AB87-AC22FC0F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0781-D9C1-4F1C-A7BC-BA56E51D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487-D2DE-4967-BB91-2DD0943D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237C-57C4-43E7-91BE-C30C069D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8625-10A9-4E85-9941-591978D5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B36B6-F2F2-4798-98DB-F929F060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863E-9365-4F4B-940D-63D007CE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1451-C5B3-4B8E-B5AF-0BB70880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2671-1056-43AD-9A0E-9EFC713C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3560-C988-4395-93E2-CDFC7615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3B6-FD0D-4D28-80AD-D00FC7D8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040" cy="6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99AC-0985-4379-BCAF-0033BC36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A071-98F1-47D0-8FA2-859718DB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94A4-CA9D-4E01-A1D2-A05C1CF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3FCB-0386-4E22-9D56-E6A5A637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AD85-2C01-4EBE-A65D-87161174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A17E-2659-4BC3-8054-7EE57301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6830-3A69-4806-9326-DCFCF31C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B01-0565-4A6F-9B4F-E7431536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4CA-8174-4D83-9BEB-0B0CE6F8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040" cy="6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ED7-D850-44F5-AD76-CF553C71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752-F45F-4BA3-B302-39E876B3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390-746E-4011-A655-57412CB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29D-1FC4-4DAC-B291-2859B2EA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4458600"/>
            <a:ext cx="4940280" cy="6904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4454280"/>
            <a:ext cx="3690000" cy="69984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4343400"/>
            <a:ext cx="3402000" cy="81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4340520"/>
            <a:ext cx="3405600" cy="81360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349812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Calibri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3714840"/>
            <a:ext cx="9147600" cy="1433880"/>
            <a:chOff x="-3600" y="3714840"/>
            <a:chExt cx="9147600" cy="143388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3714840"/>
              <a:ext cx="7455960" cy="36576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3928320"/>
              <a:ext cx="9108360" cy="59112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3750840"/>
              <a:ext cx="9143640" cy="139788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3747960"/>
              <a:ext cx="9147960" cy="59328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4806000"/>
            <a:ext cx="19198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4806000"/>
            <a:ext cx="235044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4806000"/>
            <a:ext cx="36540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DFF4D5-059F-4BAE-946C-80668123949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4458600"/>
            <a:ext cx="4940280" cy="6904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4454280"/>
            <a:ext cx="3690000" cy="69984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4343400"/>
            <a:ext cx="3402000" cy="81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4340520"/>
            <a:ext cx="3405600" cy="81360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11096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4806000"/>
            <a:ext cx="19198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4806000"/>
            <a:ext cx="235044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4806000"/>
            <a:ext cx="36540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0A7F4E-1144-4607-B70A-CA40A809B650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Calibri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499320" y="4458600"/>
            <a:ext cx="4940280" cy="6904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4454280"/>
            <a:ext cx="3690000" cy="69984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>
            <a:off x="-6120" y="4343400"/>
            <a:ext cx="3402000" cy="81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9" name="Прямая соединительная линия 14"/>
          <p:cNvCxnSpPr/>
          <p:nvPr/>
        </p:nvCxnSpPr>
        <p:spPr>
          <a:xfrm>
            <a:off x="-9000" y="4340520"/>
            <a:ext cx="3405600" cy="81360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6726960" y="4806000"/>
            <a:ext cx="19198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4380120" y="4806000"/>
            <a:ext cx="235044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47200" y="4806000"/>
            <a:ext cx="36540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7DC714-0BCB-4866-ACCC-175D56FA0E65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640" y="411480"/>
            <a:ext cx="8568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Основные нарушения требований законодательства</a:t>
            </a:r>
            <a:br>
              <a:rPr sz="2800"/>
            </a:b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об архивном деле в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исполнительных органов государственной власти </a:t>
            </a:r>
            <a:br>
              <a:rPr sz="2800"/>
            </a:b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Свердловской области </a:t>
            </a:r>
            <a:br>
              <a:rPr sz="2800"/>
            </a:b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179640" y="123480"/>
            <a:ext cx="878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ушение пунктов 6.1 – 6.7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своевременное описание дел постоянного хранения и дел по личному составу, отсутствие описей дел, документов или их неполная комплек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3000"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одробная информация размещена на официальном сайте Управления по адресу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75480"/>
            <a:ext cx="8578800" cy="35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https://uprarchives.midural.ru/article/show/id/10029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040" cy="13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Times New Roman"/>
              </a:rPr>
              <a:t>СПАСИБО ЗА ВНИМАНИЕ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11096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октября 2004 года  № 125-ФЗ «Об архивном деле в Российской Федерации»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 декабря 2008 года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Законодательство Российской Федера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3640" y="123480"/>
            <a:ext cx="8064360" cy="63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Законодательство  Свердл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Свердловской области от 25 марта 2005 год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5-ОЗ «Об архивном деле в Свердловской област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Свердловской облас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4.09.2017 № 692-ПП «Об утверждении Положения об организации и осуществлении контроля за соблюдением законодательства об архивном деле в Российской Федерации, законов и иных нормативных правовых актов Свердловской области об архивном дел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Свердловской области от 05.04.2016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237-ПП «Об Управлении архивами Свердлов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187640" y="195480"/>
            <a:ext cx="684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Виды прове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251640" y="987480"/>
            <a:ext cx="8712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 периодичности провед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лановые и внепланов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процедуре провед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кументарные и выез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897480"/>
            <a:ext cx="8229240" cy="36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59640" indent="-2512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проверки должностными лицами, проводящими проверку, составляется акт по установленной форме в двух экземпляра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-2512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кту проверки прилагаются протоколы или заключения проведенных исследований, испытаний и экспертиз, объяснения работников юридического лица, на которых возлагается ответственность за нарушение обязательных требований,  предписания об устранении выявленных нарушений и проверочный лист, в случае использования при проверк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564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Оформление результатов провер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11096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х организации хранения, комплектования, учета и использования документов Архивного фонда Российской Федерации и других архивных документов в органах государственной власти, органах местного самоуправления и организациях, утвержденных приказом Министерства культуры Российской Федерации от 31.03.2015 № 526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ламенте государственного учета документов Архивного фонда Российской Федерации, утвержденный приказом Государственной архивной службы России от  11.03.1997 № 11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</a:rPr>
              <a:t>Основные требования установлены в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251640" y="195480"/>
            <a:ext cx="8712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и нарушениями законодательства об архивном деле, выявляемые в ходе проверок,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е пунктов 2.14. – 2.27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нормативных условий хранения документов, в том чис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а архивохранилищ не оборудованы запирающимися решет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гнетушителей в местах хранения доку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исправных (прошедших поверку) приборов измерения температуры и влажности возду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журнала, фиксирующих показания температуры и влажности воздух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норм расстановки стеллажного оборудования в архивохранилищ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светового режима хранения документов в архивохранилищ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79640" y="123480"/>
            <a:ext cx="878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ушение пунктов 4.14. – 4.18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актуальной действующей номенклатуры дел, отсутствие сведений в графе 3 и итоговой записи к номенклатуре о категориях и количестве дел, заведенных в течение год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ушение пунктов 3.6 – 3.11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листа фонда и других обязательных учетных документов в архив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251640" y="195480"/>
            <a:ext cx="878472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ушение пункта 2.2.4. Регламента государственного учета документов Архивного фонда Российской Федерации от 11.03.1997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полные сведения в паспорте архива организации, хранящей управленческую документацию, по состоянию на 01 декабр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кущего год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е пунктов 4.19,  4.20 Правил от 31.03.2015 № 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 в оформлении дел постоянного срока хранения и дел по личному соста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  <Words>407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9T06:08:11Z</dcterms:created>
  <dc:creator>User</dc:creator>
  <dc:description/>
  <dc:language>en-US</dc:language>
  <cp:lastModifiedBy>t.stafeeva</cp:lastModifiedBy>
  <dcterms:modified xsi:type="dcterms:W3CDTF">2020-12-01T10:15:54Z</dcterms:modified>
  <cp:revision>100</cp:revision>
  <dc:subject/>
  <dc:title>Об итогах проведения проверок по контролю за соблюдением законодательства об архивном деле в Российской Федерации, законов и иных нормативных правовых актов Свердловской области об архивном деле за 2017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16:9)</vt:lpwstr>
  </property>
  <property fmtid="{D5CDD505-2E9C-101B-9397-08002B2CF9AE}" pid="3" name="Slides">
    <vt:r8>12</vt:r8>
  </property>
</Properties>
</file>