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D389-C175-4443-957E-FC6A34C3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E235-9DC1-447C-BAFC-722FEA83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65F9-0EA5-4522-8FEF-C6AB4227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05FF-074D-40C5-80AD-AF3BD0A9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B35E-4966-4C5C-8961-1FFE1571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3F63-8426-487C-A214-0AC711D9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FBEE-7260-4D3B-BF02-DDB805E7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C623-70A6-44E0-9592-34587687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FF15-D4AA-4EDE-B2AC-8968E63C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14360"/>
            <a:ext cx="7772040" cy="63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92D6-3375-4307-ABAB-59F032C6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B943-14A6-4359-98B3-268177D4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B389-47D3-4FC4-A496-62CD74E3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84BD-0A2F-49E2-9EF3-78432F03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BDEA-FBFB-40B7-9545-FD378676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200D-942D-48E6-AAAC-17ED21D8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D036-B10B-40BC-9894-AC9E15733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A797-8375-4F40-89F5-FCF09B01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17F42-A6C6-4D97-B0D5-B71C2070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A6276-92A2-4929-A754-5AD5E444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98DEA-BD39-4230-AB9F-DE4AC1C7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E8DD4-8279-46E0-B9FD-98848DF5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31CAF-1A84-42F5-ADA0-F40986BC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7F24-7394-4D3F-9884-B626F18D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1314360"/>
            <a:ext cx="7772040" cy="63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2CAA6-E288-40E7-93D9-B18020E5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82596-3B47-4407-A56D-073773AD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D8D4D-D839-4399-9C25-ED922060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052AC-C0AF-4012-8255-7092F62B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E7AE5-A9FA-4405-9B56-F37982BA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7CA68-CE41-4238-99DB-68360709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50657-C0E1-4F2C-A210-25BD7135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B96-EEB9-42DB-9003-409235EC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F80-CAFF-4E76-A98A-96C46AFB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1314360"/>
            <a:ext cx="7772040" cy="63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82C8-494A-4C2B-9600-7CB69F2D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BF76-C3F3-47DC-BE02-D2D8EABA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4B8E-45D7-4FEF-B153-498D840E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44DC-94E1-4D17-9CF1-9CB8731C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 hidden="1"/>
          <p:cNvSpPr/>
          <p:nvPr/>
        </p:nvSpPr>
        <p:spPr>
          <a:xfrm>
            <a:off x="499320" y="4458600"/>
            <a:ext cx="4940280" cy="6904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11" hidden="1"/>
          <p:cNvSpPr/>
          <p:nvPr/>
        </p:nvSpPr>
        <p:spPr>
          <a:xfrm>
            <a:off x="485640" y="4454280"/>
            <a:ext cx="3690000" cy="69984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Прямоугольный треугольник 13" hidden="1"/>
          <p:cNvSpPr/>
          <p:nvPr/>
        </p:nvSpPr>
        <p:spPr>
          <a:xfrm>
            <a:off x="-6120" y="4343400"/>
            <a:ext cx="3402000" cy="81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3" name="Прямая соединительная линия 14"/>
          <p:cNvCxnSpPr/>
          <p:nvPr/>
        </p:nvCxnSpPr>
        <p:spPr>
          <a:xfrm>
            <a:off x="-9000" y="4340520"/>
            <a:ext cx="3405600" cy="81360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Прямоугольный треугольник 9"/>
          <p:cNvSpPr/>
          <p:nvPr/>
        </p:nvSpPr>
        <p:spPr>
          <a:xfrm>
            <a:off x="0" y="349812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464646"/>
                </a:solidFill>
                <a:latin typeface="Calibri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Группа 1"/>
          <p:cNvGrpSpPr/>
          <p:nvPr/>
        </p:nvGrpSpPr>
        <p:grpSpPr>
          <a:xfrm>
            <a:off x="-3600" y="3714840"/>
            <a:ext cx="9147600" cy="1433880"/>
            <a:chOff x="-3600" y="3714840"/>
            <a:chExt cx="9147600" cy="1433880"/>
          </a:xfrm>
        </p:grpSpPr>
        <p:sp>
          <p:nvSpPr>
            <p:cNvPr id="7" name="Полилиния 6"/>
            <p:cNvSpPr/>
            <p:nvPr/>
          </p:nvSpPr>
          <p:spPr>
            <a:xfrm>
              <a:off x="1687680" y="3714840"/>
              <a:ext cx="7455960" cy="36576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Полилиния 7"/>
            <p:cNvSpPr/>
            <p:nvPr/>
          </p:nvSpPr>
          <p:spPr>
            <a:xfrm>
              <a:off x="35280" y="3928320"/>
              <a:ext cx="9108360" cy="59112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Полилиния 10"/>
            <p:cNvSpPr/>
            <p:nvPr/>
          </p:nvSpPr>
          <p:spPr>
            <a:xfrm>
              <a:off x="0" y="3750840"/>
              <a:ext cx="9143640" cy="139788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0" name="Прямая соединительная линия 11"/>
            <p:cNvCxnSpPr/>
            <p:nvPr/>
          </p:nvCxnSpPr>
          <p:spPr>
            <a:xfrm>
              <a:off x="-3600" y="3747960"/>
              <a:ext cx="9147960" cy="59328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4806000"/>
            <a:ext cx="191988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4806000"/>
            <a:ext cx="235044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4806000"/>
            <a:ext cx="36540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FE03D5-7972-4398-A3F2-27D9704142AE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олилиния 12"/>
          <p:cNvSpPr/>
          <p:nvPr/>
        </p:nvSpPr>
        <p:spPr>
          <a:xfrm>
            <a:off x="499320" y="4458600"/>
            <a:ext cx="4940280" cy="6904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олилиния 11"/>
          <p:cNvSpPr/>
          <p:nvPr/>
        </p:nvSpPr>
        <p:spPr>
          <a:xfrm>
            <a:off x="485640" y="4454280"/>
            <a:ext cx="3690000" cy="69984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ый треугольник 13"/>
          <p:cNvSpPr/>
          <p:nvPr/>
        </p:nvSpPr>
        <p:spPr>
          <a:xfrm>
            <a:off x="-6120" y="4343400"/>
            <a:ext cx="3402000" cy="81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54" name="Прямая соединительная линия 14"/>
          <p:cNvCxnSpPr/>
          <p:nvPr/>
        </p:nvCxnSpPr>
        <p:spPr>
          <a:xfrm>
            <a:off x="-9000" y="4340520"/>
            <a:ext cx="3405600" cy="81360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11096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4806000"/>
            <a:ext cx="191988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4806000"/>
            <a:ext cx="235044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4806000"/>
            <a:ext cx="36540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01D54F-55D8-4AEE-A2AA-F3BB71D74394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Calibri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499320" y="4458600"/>
            <a:ext cx="4940280" cy="6904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4454280"/>
            <a:ext cx="3690000" cy="69984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ый треугольник 13"/>
          <p:cNvSpPr/>
          <p:nvPr/>
        </p:nvSpPr>
        <p:spPr>
          <a:xfrm>
            <a:off x="-6120" y="4343400"/>
            <a:ext cx="3402000" cy="81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9" name="Прямая соединительная линия 14"/>
          <p:cNvCxnSpPr/>
          <p:nvPr/>
        </p:nvCxnSpPr>
        <p:spPr>
          <a:xfrm>
            <a:off x="-9000" y="4340520"/>
            <a:ext cx="3405600" cy="81360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100" name="PlaceHolder 1"/>
          <p:cNvSpPr>
            <a:spLocks noGrp="1"/>
          </p:cNvSpPr>
          <p:nvPr>
            <p:ph type="dt" idx="7"/>
          </p:nvPr>
        </p:nvSpPr>
        <p:spPr>
          <a:xfrm>
            <a:off x="6726960" y="4806000"/>
            <a:ext cx="191988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ftr" idx="8"/>
          </p:nvPr>
        </p:nvSpPr>
        <p:spPr>
          <a:xfrm>
            <a:off x="4380120" y="4806000"/>
            <a:ext cx="235044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9"/>
          </p:nvPr>
        </p:nvSpPr>
        <p:spPr>
          <a:xfrm>
            <a:off x="8647200" y="4806000"/>
            <a:ext cx="36540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733CD4-5C31-453E-A8DA-F494BAEE1025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640" y="411480"/>
            <a:ext cx="856872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105766"/>
                </a:solidFill>
                <a:latin typeface="Times New Roman"/>
              </a:rPr>
              <a:t>Основные нарушения требований законодательства</a:t>
            </a:r>
            <a:br>
              <a:rPr sz="2800"/>
            </a:br>
            <a:r>
              <a:rPr b="1" lang="ru-RU" sz="2800" spc="-1" strike="noStrike">
                <a:solidFill>
                  <a:srgbClr val="105766"/>
                </a:solidFill>
                <a:latin typeface="Times New Roman"/>
              </a:rPr>
              <a:t>об архивном деле в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105766"/>
                </a:solidFill>
                <a:latin typeface="Times New Roman"/>
              </a:rPr>
              <a:t>исполнительных органов государственной власти </a:t>
            </a:r>
            <a:br>
              <a:rPr sz="2800"/>
            </a:br>
            <a:r>
              <a:rPr b="1" lang="ru-RU" sz="2800" spc="-1" strike="noStrike">
                <a:solidFill>
                  <a:srgbClr val="105766"/>
                </a:solidFill>
                <a:latin typeface="Times New Roman"/>
              </a:rPr>
              <a:t>Свердловской области </a:t>
            </a:r>
            <a:br>
              <a:rPr sz="2800"/>
            </a:br>
            <a:br>
              <a:rPr sz="24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179640" y="123480"/>
            <a:ext cx="878472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рушение пунктов 6.1 – 6.7 Правил от 31.03.2015 № 5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своевременное описание дел постоянного хранения и дел по личному составу, отсутствие описей дел, документов или их неполная комплект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480"/>
            <a:ext cx="82292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3000"/>
          </a:bodyPr>
          <a:p>
            <a:pPr indent="0" algn="just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Подробная информация размещена на официальном сайте Управления по адресу: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75480"/>
            <a:ext cx="8578800" cy="35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n-US" sz="2700" spc="-1" strike="noStrike" u="sng">
                <a:solidFill>
                  <a:srgbClr val="ff0000"/>
                </a:solidFill>
                <a:uFillTx/>
                <a:latin typeface="Times New Roman"/>
              </a:rPr>
              <a:t>https://uprarchives.midural.ru/article/show/id/10029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3000"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464646"/>
                </a:solidFill>
                <a:latin typeface="Times New Roman"/>
              </a:rPr>
              <a:t>СПАСИБО ЗА ВНИМАНИЕ!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11096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е законы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2 октября 2004 года  № 125-ФЗ «Об архивном деле в Российской Федерации»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6 декабря 2008 года № 294-ФЗ «О защите прав юридических лиц и индивидуальных предпринимателей при осуществлении государственного контроля (надзора) и муниципального контроля»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Законодательство Российской Федераци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683640" y="123480"/>
            <a:ext cx="8064360" cy="63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Законодательство  Свердл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Свердловской области от 25 марта 2005 года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5-ОЗ «Об архивном деле в Свердловской област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Свердловской област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4.09.2017 № 692-ПП «Об утверждении Положения об организации и осуществлении контроля за соблюдением законодательства об архивном деле в Российской Федерации, законов и иных нормативных правовых актов Свердловской области об архивном деле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Свердловской области от 05.04.2016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№ 237-ПП «Об Управлении архивами Свердловской обла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1187640" y="195480"/>
            <a:ext cx="6840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Виды прове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2"/>
          <p:cNvSpPr/>
          <p:nvPr/>
        </p:nvSpPr>
        <p:spPr>
          <a:xfrm>
            <a:off x="251640" y="987480"/>
            <a:ext cx="87127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По периодичности провед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лановые и внеплановы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 процедуре провед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окументарные и выез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897480"/>
            <a:ext cx="8229240" cy="36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359640" indent="-2512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езультатам проверки должностными лицами, проводящими проверку, составляется акт по установленной форме в двух экземпляра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596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59640" indent="-2512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акту проверки прилагаются протоколы или заключения проведенных исследований, испытаний и экспертиз, объяснения работников юридического лица, на которых возлагается ответственность за нарушение обязательных требований,  предписания об устранении выявленных нарушений и проверочный лист, в случае использования при проверке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9564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Оформление результатов проверк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11096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илах организации хранения, комплектования, учета и использования документов Архивного фонда Российской Федерации и других архивных документов в органах государственной власти, органах местного самоуправления и организациях, утвержденных приказом Министерства культуры Российской Федерации от 31.03.2015 № 526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ламенте государственного учета документов Архивного фонда Российской Федерации, утвержденный приказом Государственной архивной службы России от  11.03.1997 № 11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105766"/>
                </a:solidFill>
                <a:latin typeface="Times New Roman"/>
              </a:rPr>
              <a:t>Основные требования установлены в: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251640" y="195480"/>
            <a:ext cx="871272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распространенными нарушениями законодательства об архивном деле, выявляемые в ходе проверок,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рушение пунктов 2.14. – 2.27 Правил от 31.03.2015 № 5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блюдение нормативных условий хранения документов, в том чис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на архивохранилищ не оборудованы запирающимися решетк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огнетушителей в местах хранения докумен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исправных (прошедших поверку) приборов измерения температуры и влажности воздух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журнала, фиксирующих показания температуры и влажности воздух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норм расстановки стеллажного оборудования в архивохранилищ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светового режима хранения документов в архивохранилищ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179640" y="123480"/>
            <a:ext cx="87847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рушение пунктов 4.14. – 4.18 Правил от 31.03.2015 № 5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сутствие актуальной действующей номенклатуры дел, отсутствие сведений в графе 3 и итоговой записи к номенклатуре о категориях и количестве дел, заведенных в течение год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рушение пунктов 3.6 – 3.11 Правил от 31.03.2015 № 5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сутствие листа фонда и других обязательных учетных документов в архиве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1"/>
          <p:cNvSpPr/>
          <p:nvPr/>
        </p:nvSpPr>
        <p:spPr>
          <a:xfrm>
            <a:off x="251640" y="195480"/>
            <a:ext cx="878472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рушение пункта 2.2.4. Регламента государственного учета документов Архивного фонда Российской Федерации от 11.03.1997 №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полные сведения в паспорте архива организации, хранящей управленческую документацию, по состоянию на 01 декабр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кущего год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рушение пунктов 4.19,  4.20 Правил от 31.03.2015 № 5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ки в оформлении дел постоянного срока хранения и дел по личному состав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  <Words>407</Words>
  <Paragraphs>7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9T06:08:11Z</dcterms:created>
  <dc:creator>User</dc:creator>
  <dc:description/>
  <dc:language>en-US</dc:language>
  <cp:lastModifiedBy>t.stafeeva</cp:lastModifiedBy>
  <dcterms:modified xsi:type="dcterms:W3CDTF">2020-12-01T10:15:54Z</dcterms:modified>
  <cp:revision>100</cp:revision>
  <dc:subject/>
  <dc:title>Об итогах проведения проверок по контролю за соблюдением законодательства об архивном деле в Российской Федерации, законов и иных нормативных правовых актов Свердловской области об архивном деле за 2017 го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16:9)</vt:lpwstr>
  </property>
  <property fmtid="{D5CDD505-2E9C-101B-9397-08002B2CF9AE}" pid="3" name="Slides">
    <vt:r8>12</vt:r8>
  </property>
</Properties>
</file>